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E8D2-B2A1-43F4-8F57-FE32BF444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CA7-59F5-4C5A-A325-B103F8CEF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626080" y="6419880"/>
            <a:ext cx="43005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296F3A-2737-4A7B-8BB7-540DAA94E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7640" y="530280"/>
            <a:ext cx="3422520" cy="2566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5520" y="3247920"/>
            <a:ext cx="7275600" cy="30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020-833C-483F-A76C-4BEA5C018F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4AA6-384C-4C0E-A92C-C97746672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07F9-4730-4E1C-903E-C4222C9D9A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E5E3-ADAA-4D86-9BB5-099481536C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F059-A7D0-43E3-879D-FBAA300836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30280"/>
            <a:ext cx="7942320" cy="30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A6AA-9887-49FF-B73B-C3A9B246FA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0C1-D19F-4D98-BCF9-7143BB9C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DEF-B396-4CBE-B964-9CB10FC1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83C-C53F-4066-AE6F-D0D5D1A1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091-E847-48E2-8EE3-7A34E6D8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8FE-6C8C-4430-852D-DFDDAFD2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8D50-77AB-40BC-95D0-4DFD5046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E31-0ABC-4A0E-B7D0-E01F55D1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B35F-1BCA-4500-8C84-F357606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DC5-00CB-4000-B5F4-6DB4F149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F1AD-FA69-4DF8-B31D-34DE3D7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355-741F-44A3-9F08-23CEDC2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33E-6773-4303-BB17-74038863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65C-1BF2-475D-B4FD-B30A19EEE4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20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28640"/>
          <a:ext cx="8462880" cy="4451400"/>
        </p:xfrm>
        <a:graphic>
          <a:graphicData uri="http://schemas.openxmlformats.org/drawingml/2006/table">
            <a:tbl>
              <a:tblPr/>
              <a:tblGrid>
                <a:gridCol w="2016000"/>
                <a:gridCol w="1008360"/>
                <a:gridCol w="1223640"/>
                <a:gridCol w="1295640"/>
                <a:gridCol w="1224000"/>
                <a:gridCol w="1695240"/>
              </a:tblGrid>
              <a:tr h="3160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16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16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10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3 указываются сведения о медицинских сестрах, которые не включают данные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14 заполняются сведения о медицинских сестрах анестезиста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10 + 30.1105.1.15 + 30.1105.1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10 + 30.1105.2.15 + 30.1105.2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10 + 30.1105.3.15 + 30.1105.3.16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.  ≥ 30.1105.1.05. + 30.1105.1.06 + 30.1105.1.07 + 30.1105.1.08  + 30.1105.1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. ≥ 30.1105.2.05. + 30.1105.2.06 + 30.1105.2.07 + 30.1105.2.08  + 30.1105.2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врач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. ≥ 30.1105.3.05. + 30.1105.3.06 + 30.1105.3.07 + 30.1105.3.08  + 30.1105.3.09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93200" y="1123560"/>
            <a:ext cx="84711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10. ≥ 30.1105.1.11. + 30.1105.1.12 + 30.1105.1.13 + 30.1105.1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10. ≥ 30.1105.2.11. + 30.1105.2.12 + 30.1105.2.13 + 30.1105.2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 среднего медицинского персонал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10. ≥ 30.1105.3.11. + 30.1105.3.12 + 30.1105.3.13 + 30.1105.3.14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5600"/>
                <a:gridCol w="9367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от 20 июня 2013 г. № 388н 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от 20 июня 2013  г. № 388н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21 февраля 2020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≤ 30.2121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≤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785440" cy="5489640"/>
        </p:xfrm>
        <a:graphic>
          <a:graphicData uri="http://schemas.openxmlformats.org/drawingml/2006/table">
            <a:tbl>
              <a:tblPr/>
              <a:tblGrid>
                <a:gridCol w="4176720"/>
                <a:gridCol w="503280"/>
                <a:gridCol w="836640"/>
                <a:gridCol w="1036800"/>
                <a:gridCol w="1141200"/>
                <a:gridCol w="1090800"/>
              </a:tblGrid>
              <a:tr h="1462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-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дицинский эвакуаций, выполненных выездными бригадами (лиц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      № 388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20 июня 2013 г. № 388н (приложение 2)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6 «Число медицинских эвакуаций, выполненных выездными бригадами (лиц)» указываются сведения о числе лиц, которым была оказана скорая медицинская помощь при медицинской эвакуации (из графы 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  =  30.2120.3.0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3680" y="233280"/>
            <a:ext cx="828036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1680" y="1484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выездных бригад скорой медицинской помощ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3=30.2200.1.03+30.2200.2.03+30.2200.3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4=30.2200.1.04+30.2200.2.04+30.2200.3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5=30.2200.1.05+30.2200.2.05+30.2200.3.0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4.06=30.2200.1.06+30.2200.2.06+30.2200.3.0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56760"/>
            <a:ext cx="82803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412640"/>
            <a:ext cx="8856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6=30.2200.11.06+30.2200.12.0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188640"/>
            <a:ext cx="8280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42920" y="1076040"/>
            <a:ext cx="885816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скорой медицинской помощ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3  ≥  30.2200.21.03 +30.2200.22.03+30.2200.23.03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3+30.2200.25.03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круглосуточных бригад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4 ≥ 30.2200.21.04+30.2200.22.04+30.2200.23.04+ 30.2200.24.04+30.2200.25.04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5  ≥  30.2200.21.05+30.2200.22.05+30.2200.23.05 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5 +30.2200.25.05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помощь бригадами при медицинской эваку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.06 ≥ 30.2200.21.06+30.2200.22.06+30.2200.23.06+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8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24.06+30.2200.25.06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, в том числе при медицинской эвакуации)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ло лиц, эвакуированных с использованием санитарной авиации за счет средств регионального бюджета (из табл. 2200, стр. 3, гр.6) 1 __________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госпитализированных в первые сутки 2 ________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о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34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400" y="1415880"/>
          <a:ext cx="8112240" cy="5266080"/>
        </p:xfrm>
        <a:graphic>
          <a:graphicData uri="http://schemas.openxmlformats.org/drawingml/2006/table">
            <a:tbl>
              <a:tblPr/>
              <a:tblGrid>
                <a:gridCol w="4154760"/>
                <a:gridCol w="788760"/>
                <a:gridCol w="1584360"/>
                <a:gridCol w="1584360"/>
              </a:tblGrid>
              <a:tr h="157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 (да-1, нет-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 скорой медицинской помощи (да-1, нет –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Заголовок 1"/>
          <p:cNvSpPr/>
          <p:nvPr/>
        </p:nvSpPr>
        <p:spPr>
          <a:xfrm>
            <a:off x="826920" y="40464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2 декабря 2009 г. № 942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5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0920" y="765000"/>
          <a:ext cx="8643960" cy="592488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719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6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стационары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ациентов, доставленных в травмоцен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 уровня с места дорожно-транспор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эвакуированных по экстренным медицинским показаниям в первые 24 часа в медицинские организации 2-го и 3-го уровней в рамках трехуровневой системы оказания медицинской помощи субъекта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5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5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8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11200" y="13791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скорой медицинской помощ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отделений скорой медицинской помощ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4 + 30.1060.2.04 + 30.1060.3.04 + 30.1060.4.04 + 30.1060.5.04 + 30.1060.6.04 + 30.1060.7.04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20 г. по сравнению с 2019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от 1 декабря 2005 г. № 752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от 1 декабря 2005 г. № 752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≤ 30.1060.1.03+1.04 + 30.1060.2.03+2.04 +30.1060.3.03+3.04 + 30.1060.4.03+4.04 + 30.1060.5.03+5.04 + 30.1060.6.03+6.04 + 30.1060.7.03+7.0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8360" y="1500120"/>
          <a:ext cx="8462880" cy="4908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720720"/>
                <a:gridCol w="863640"/>
                <a:gridCol w="1008000"/>
                <a:gridCol w="936720"/>
                <a:gridCol w="1008000"/>
                <a:gridCol w="719280"/>
                <a:gridCol w="687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е 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-зиологи-реанима-толог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95200" y="1628640"/>
          <a:ext cx="8553600" cy="4981680"/>
        </p:xfrm>
        <a:graphic>
          <a:graphicData uri="http://schemas.openxmlformats.org/drawingml/2006/table">
            <a:tbl>
              <a:tblPr/>
              <a:tblGrid>
                <a:gridCol w="1673280"/>
                <a:gridCol w="874800"/>
                <a:gridCol w="726840"/>
                <a:gridCol w="1017720"/>
                <a:gridCol w="1352520"/>
                <a:gridCol w="935280"/>
                <a:gridCol w="907920"/>
                <a:gridCol w="1065240"/>
              </a:tblGrid>
              <a:tr h="35424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персонал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 (фельдшеры) по приему вызов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-шеры скорой мед. помощ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-цинские сест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-кие сестры анесте-зис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Елена Александровна Бронникова</cp:lastModifiedBy>
  <cp:lastPrinted>2020-12-02T13:30:30Z</cp:lastPrinted>
  <dcterms:modified xsi:type="dcterms:W3CDTF">2020-12-09T01:52:18Z</dcterms:modified>
  <cp:revision>514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