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E634-5B3B-4BDE-A340-7B767E2E17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D6DC-E68F-4757-B26A-FA83CFB3A0CD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2D7B-DB93-4A32-9D68-04C080AFF737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7C04-80DA-49F5-9C4B-8AA6C2C11277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0416-A755-4CF6-9323-CA31C7C1CEC7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E636-0257-48C9-95C5-47642B566BF4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FA1C-1573-4D9B-827B-07E47FAEEC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BE8-E10A-40E3-BB3B-32C5E15B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E573-EC26-43CD-A937-5B660E61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3C11-5B78-46AE-950F-05CB15F5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66F-218D-4D62-8528-F45B4310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262-9140-4957-85CD-BB06A469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DB6-DEBF-4A51-ADF1-70D78A92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B42-C3A8-435E-8E58-E0FA466E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197A-2257-49E2-BF3F-BFD057D0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B18-76F1-47B4-B002-78C2B3CA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81B4-1B25-4B5F-AAC0-415AE14D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7F5-5A58-4EF2-8EE1-CC67B4F5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963E-28D8-45C3-9087-AB35D087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DE19-2127-4595-AE63-091FD74F7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88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94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3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1994040"/>
            <a:ext cx="8480520" cy="366840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10603080" y="13644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0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61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5"/>
            <p:cNvSpPr/>
            <p:nvPr/>
          </p:nvSpPr>
          <p:spPr>
            <a:xfrm>
              <a:off x="834120" y="221904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Box 7"/>
            <p:cNvSpPr/>
            <p:nvPr/>
          </p:nvSpPr>
          <p:spPr>
            <a:xfrm>
              <a:off x="1253880" y="362556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12"/>
            <p:cNvSpPr/>
            <p:nvPr/>
          </p:nvSpPr>
          <p:spPr>
            <a:xfrm>
              <a:off x="871920" y="515484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6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11" descr=""/>
          <p:cNvPicPr/>
          <p:nvPr/>
        </p:nvPicPr>
        <p:blipFill>
          <a:blip r:embed="rId1"/>
          <a:stretch/>
        </p:blipFill>
        <p:spPr>
          <a:xfrm>
            <a:off x="10709280" y="136440"/>
            <a:ext cx="1482840" cy="1152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1609560" y="466560"/>
            <a:ext cx="8972640" cy="59248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1" descr=""/>
          <p:cNvPicPr/>
          <p:nvPr/>
        </p:nvPicPr>
        <p:blipFill>
          <a:blip r:embed="rId2"/>
          <a:stretch/>
        </p:blipFill>
        <p:spPr>
          <a:xfrm>
            <a:off x="10632960" y="136440"/>
            <a:ext cx="1559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82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Елена Александровна Бронникова</cp:lastModifiedBy>
  <cp:lastPrinted>2018-12-10T14:36:03Z</cp:lastPrinted>
  <dcterms:modified xsi:type="dcterms:W3CDTF">2020-12-09T01:47:18Z</dcterms:modified>
  <cp:revision>126</cp:revision>
  <dc:subject/>
  <dc:title>Презентация PowerPoint</dc:title>
</cp:coreProperties>
</file>