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14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15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FD53-0089-45AC-89CA-1BB8473EDB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6F42-92E4-4BF4-A6CE-059768E214E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2B02-4278-498D-B0DA-C38D3D608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15F6-3878-43B4-BD7D-5AA686CB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6C82-D25E-40BE-A98C-E19EAD43D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515E-771A-4C5E-91B9-1DE494A3C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EE3B-CD6E-4149-9F0A-5785AFC5E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2414-07B1-4FAC-9846-FD52FF3F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CABC-7691-43DE-A723-62E4F528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E280-3969-44DB-B1E5-3949272F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297F-7D9A-4355-9100-70C53A60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E879-2FA3-445D-A534-D28A9E88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4CB5-9CB1-4EBA-9931-20835E57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062F-D6EF-49F2-80D8-2913EAE3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84EF-AD55-4547-8FBA-69E1A526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D00C-1224-4641-BBB7-B2F67FB9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FEC3-4636-483F-AA5F-553DC75D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88A7-9E5F-4A94-BB1E-5C68596EA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0A17-C03B-465B-A703-E56400C4E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0A973C-7C96-47B2-99BC-0BE8FDC69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1B0032-2FF3-4648-AACA-43C6D12C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D0B910-FE66-414D-9E1A-C54F6BC8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4BD807-C7D2-4E33-BBD6-4026F55C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4D5CF6-ADFA-475C-8562-23F67899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F177-2A99-4C10-8828-E627C033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1A9245-2CF8-499E-9978-D1E57A5A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93BEA9-3DE5-4961-A676-67687807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44174D-59FD-4B54-93A1-E1F2F0A9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E2E223-2264-4C64-BA29-9595533D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F03628-E699-4166-B5AC-497F5463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56E521-A363-4F01-96AF-621502236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92BB2A-646A-472A-9BE5-242286E62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E1DC71-FAB8-447D-9A68-4FB7C5AFF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AA4CD2-AF12-48DC-8AC4-1F5D5940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75023C-76A1-48D9-8663-FF0F9AC8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AAD0-F3FB-4A54-8312-9BF6F7D2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D3488C-93E6-4653-BC38-50499D19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A4D3C9-25DF-4BE3-B657-6B9F038A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A49C33-812A-4E25-A51C-8032F86C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5929DA-702A-407F-A6AB-FA6D8431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792291-0DC3-4235-B2A7-9F9A7C8D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E3476D-F118-4BEA-8A04-DE709623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CC3F26-FA97-4A1B-8281-8EDD830E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C27A8A-BF2E-40A8-A0F6-D51B99E11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922B44-CBA8-49DC-AC22-6A9618CAB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8471-66F0-4CDC-8B84-97C9B0BC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A3BC-2982-423E-BD85-0D70E2B5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EBCC-62E9-4491-ADAF-1C418D46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8D91-FAE6-4822-9B92-5914C182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E253-9BE1-4A8D-9CC9-FD9C7B3C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4B2F-AE95-45FD-9A17-A74ACB9753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6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038F-D478-4964-BFF5-F2DDA3DC58A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2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2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2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3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4349-EC46-4370-A2C6-89927ED4A8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84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88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9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0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5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7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BCDC-CC28-446E-82CD-DAB811372BB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3e3ff"/>
                </a:solidFill>
                <a:latin typeface="Times New Roman"/>
              </a:rPr>
              <a:t>“</a:t>
            </a: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Сведения о контингентах больных с психическими расстройствами, находящихся на активном диспансерном наблюдении и на принудительном лечении</a:t>
            </a:r>
            <a:r>
              <a:rPr b="1" lang="en-US" sz="2800" spc="-1" strike="noStrike">
                <a:solidFill>
                  <a:srgbClr val="e3e3ff"/>
                </a:solidFill>
                <a:latin typeface="Times New Roman"/>
              </a:rPr>
              <a:t>” </a:t>
            </a: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(Форма № 36-ПЛ) </a:t>
            </a:r>
            <a:br>
              <a:rPr sz="2800"/>
            </a:b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132000" y="4221000"/>
            <a:ext cx="5554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ГБУ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МИЦПН имени В.П.Сербского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инздрава Рос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тдел судебно-психиатрической профилак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Лазько Наталья Викто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Шарабидзе Нино Гурам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Основы предварительной подготовки отчет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4" name="TextBox 3"/>
          <p:cNvSpPr/>
          <p:nvPr/>
        </p:nvSpPr>
        <p:spPr>
          <a:xfrm>
            <a:off x="684360" y="1844640"/>
            <a:ext cx="7559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1. Использование программы «ТЕРПИНС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2. Сравнение с показателями предыдущего год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3. Подготовка пояснительных записок по проблемным показателя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18"/>
          <p:cNvSpPr/>
          <p:nvPr/>
        </p:nvSpPr>
        <p:spPr>
          <a:xfrm>
            <a:off x="0" y="404640"/>
            <a:ext cx="949968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Контингенты больных, находящихся под активны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диспансерным наблюдением  АДН ( таблица 2100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1. Проверка показателя «группы риска» (р.з.15-30%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2. 2110, п.3 число снятых с АДН в связи с отсутстви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сведений в течение года (р.з.2-3%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3. 2130,п. 2 сопоставить с показателем находящихся 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стационарном ПЛ (сумма строк 5 и 6 гр.14 таб.2200)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по РФ за 2019г. - 39,5%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11280" y="11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39280" y="1989000"/>
            <a:ext cx="814716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ислитель:  сумма строк 5 и 6 по гр.8 таблицы 2100 формы 36-ПЛ минус сумма строк 5 и 6 гр.10 той же таблиц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менатель: сумма строк 5 и 6 по гр.8 таблицы 2100 формы 36-П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ножить на 1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почтительное значение от 15 до 30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оугольник 2"/>
          <p:cNvSpPr/>
          <p:nvPr/>
        </p:nvSpPr>
        <p:spPr>
          <a:xfrm>
            <a:off x="395280" y="115920"/>
            <a:ext cx="828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Расчёт показателя, характеризующего формирование группы АДН (%% больных, поставленных под АДН и не совершивших в течение жизни ООД –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“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группа риска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”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0080" y="15840"/>
            <a:ext cx="86770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e3e3ff"/>
                </a:solidFill>
                <a:latin typeface="Arial"/>
              </a:rPr>
              <a:t>Контингенты больных, находящихся на принудительном наблюдении и лечении у психиатра в амбулаторных условиях (ПНЛА)</a:t>
            </a:r>
            <a:endParaRPr b="0" lang="en-US" sz="31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68360" y="1773000"/>
            <a:ext cx="8391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таблицы 2140- 219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Соотношение числа находящихся на  ПНЛА ко всем лицам с ПММХ (38,5% по РФ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Средняя продолжительность ПНЛА (по РФ в 2019г. – 625 дней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2190,п.1 – совершившие новое ООД в отчетном году (по РФ снижение показателя в течение 10 лет с 5 до 3,2% в 2018г., 3,9% в 2019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Не поступившие в ПС после ПНЛ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Состав больных, находящихся на принудительном лечении в психиатрических стационарах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Соотношение видов ПЛ (гр.14 стр.9 и 11 к сумме стр.5 и 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Длительность стационарного П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Причины длительности пребывания (от 5 до 10 лет и больше 10 лет – 223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Оценка летальности (по РФ 1,5 % в 2018г., 1,3 % в 2019г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Фиксировать нападения больных в период ПЛ (224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6:52:47Z</dcterms:created>
  <dc:creator>gv</dc:creator>
  <dc:description/>
  <dc:language>en-US</dc:language>
  <cp:lastModifiedBy>Елена Александровна Бронникова</cp:lastModifiedBy>
  <cp:lastPrinted>2017-12-07T17:18:35Z</cp:lastPrinted>
  <dcterms:modified xsi:type="dcterms:W3CDTF">2020-12-09T01:10:46Z</dcterms:modified>
  <cp:revision>802</cp:revision>
  <dc:subject/>
  <dc:title>Таблица 1 Состав невменяемых психически больных по характеру рекомендованных медицинских мер (в %) в 2005 г. Дальневосточный федеральный округ РФ</dc:title>
</cp:coreProperties>
</file>