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2AE0-1490-4E42-90F7-CDE065B49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8A40-0D8D-4126-86BD-A380B88E06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BD20-D5ED-4D2C-A5C7-0BAE98361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CD5-81BD-4CE4-A304-C4628C46E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0984-AE3D-434F-AD13-32E2AE6AF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C1A-1FD5-4B92-B293-3293AEF0C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A710-D5A8-40E8-B8A8-304CBE5D8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7B64-A45F-4860-BB59-926C7B8ED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6EA6-273D-413C-A70E-2C7FAF803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950-6E2E-4F2B-AD37-8E903D13B7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4897-F282-41D4-B577-82D3F3A59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D998-1FEF-46E0-95F2-E0E84D9E0F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7DA3-E10F-4D71-A4D1-23CF09842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785F-610A-4B0C-865F-857DAE5DEC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39CB-2301-4A5F-876B-1EE0F0FC1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F3F-7116-44B9-AF39-2AED359AEC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200-043C-47C5-B4E4-EC9D6B8815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194-427C-4376-942B-EE1AE79FA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F85D-F6AE-4BC9-81B0-52C66AAAB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D4D-18A6-42D7-AC82-29F40C373F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406-B1EF-4E03-AF4C-4B55ED9DA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C054-4039-42EE-B64D-E4519CDB9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51CE-CCD2-4C7A-8C44-BF9CBE36E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A82E-659E-4B96-95F2-FC5486A8F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4B2-2DB5-4279-99FA-6ED59DDAA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D96B-F2F0-47FC-8E14-A2AF180F80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825A-BEE7-4B41-8558-3043C6DD3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000E-59DE-4FDA-B615-9A1DAEF1C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E36E-E898-4FE6-9A52-2621ABC1C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834D-37A4-4843-94F5-BC3D8489D4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9920-794C-493F-8AEA-B41A65353A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7BE5-4884-4371-9AE4-2F21B4F084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036-99DD-461C-8323-1131FA33F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AFEE-3FEE-4B7B-85ED-EFADD52F5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501A-E431-43D4-8357-C6DF020AA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4470-92F6-484C-9103-540D86CFE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B40-D5B5-46EB-89A8-D4FC7A839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41A6-1952-4AC3-A840-86A7B0EF2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54BB-D4CE-4A38-BB51-A1D4A637D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244E-2C46-492B-A253-79FAE66AFD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90CD-89D6-4448-B1C5-BFF157B4D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A04E-816D-4F7E-B8EC-478F59AA8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504D-A896-486B-A3DF-9CB67E98F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B830-FE44-4DF1-9359-DC984D2EF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DCF5-A3D1-4218-90A5-E1C7B051EB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922-F520-45EC-9B01-46C542A4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F21-CF7C-427F-B68F-725D8130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BDE-CF31-482B-B9F4-5D88C13C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C5DF-E2B9-4C7B-BA43-9B648D70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480-6CA0-43B0-8D7F-4930B846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30B-06FF-4A2C-8CD9-DBED8950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2A6-B495-44AB-A4A8-21A29C40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C0A-7388-46BE-83D3-BCDDA13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735-1FF2-43C4-BA20-FD3490F5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73B-6533-44B8-A79B-6B9330A6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BDB-DCD7-4D90-99F9-D1950F6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57F-C78E-4E69-906A-DEF2D58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05BE-49FC-4B03-BB5D-D39F39E5FF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20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28640"/>
          <a:ext cx="8229600" cy="5004000"/>
        </p:xfrm>
        <a:graphic>
          <a:graphicData uri="http://schemas.openxmlformats.org/drawingml/2006/table">
            <a:tbl>
              <a:tblPr/>
              <a:tblGrid>
                <a:gridCol w="1297080"/>
                <a:gridCol w="503280"/>
                <a:gridCol w="950760"/>
                <a:gridCol w="1096920"/>
                <a:gridCol w="1095480"/>
                <a:gridCol w="1095480"/>
                <a:gridCol w="1095120"/>
                <a:gridCol w="1095480"/>
              </a:tblGrid>
              <a:tr h="54828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Число физических лиц» показывают только основных работников, имеющих трудовую книжку в данной медицинск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5 (всего) должна быть равна сумме строк 1, 2, 3, 4 по графам 3, 4, 5, 6, 7, 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212760" y="1197000"/>
            <a:ext cx="882324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3=141.1000.1.03+141.1000.2.03+141.1000.3.03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4=141.1000.1.04+141.1000.2.04+141.1000.3.04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5=141.1000.1.05+141.1000.2.05+141.1000.3.05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17440" y="1197000"/>
            <a:ext cx="87519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, включая стационары на дом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6=141.1000.1.06 + 141.1000.2.06 +141.1000.3.06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7=141.1000.1.07 + 141.1000.2.07 +141.1000.3.07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5.08=141.1000.1.08 + 141.1000.2.08 +141.1000.3.08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9280" y="1484280"/>
          <a:ext cx="8496360" cy="50990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64296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собн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628640"/>
          <a:ext cx="8497800" cy="4853160"/>
        </p:xfrm>
        <a:graphic>
          <a:graphicData uri="http://schemas.openxmlformats.org/drawingml/2006/table">
            <a:tbl>
              <a:tblPr/>
              <a:tblGrid>
                <a:gridCol w="649440"/>
                <a:gridCol w="431640"/>
                <a:gridCol w="539640"/>
                <a:gridCol w="5414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до-в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от 9 декабря 1999 г. № 438 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960" y="155736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6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238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указываются данные о числе выписанных детей до 3 лет и проведенными ими пациенто-дней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320" y="58680"/>
            <a:ext cx="8713800" cy="9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0160" y="928800"/>
          <a:ext cx="8496000" cy="5742000"/>
        </p:xfrm>
        <a:graphic>
          <a:graphicData uri="http://schemas.openxmlformats.org/drawingml/2006/table">
            <a:tbl>
              <a:tblPr/>
              <a:tblGrid>
                <a:gridCol w="1079280"/>
                <a:gridCol w="412920"/>
                <a:gridCol w="647640"/>
                <a:gridCol w="503280"/>
                <a:gridCol w="504720"/>
                <a:gridCol w="503280"/>
                <a:gridCol w="576360"/>
                <a:gridCol w="720720"/>
                <a:gridCol w="576000"/>
                <a:gridCol w="576360"/>
                <a:gridCol w="503280"/>
                <a:gridCol w="720720"/>
                <a:gridCol w="647640"/>
                <a:gridCol w="523800"/>
              </a:tblGrid>
              <a:tr h="365400"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-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-годо-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-него-дов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некологические для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-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2898720" y="380052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820880" y="421956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394160" y="42195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0" y="42148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6835680" y="46213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0"/>
          <p:cNvSpPr/>
          <p:nvPr/>
        </p:nvSpPr>
        <p:spPr>
          <a:xfrm>
            <a:off x="4394160" y="4695840"/>
            <a:ext cx="87948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450072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6858000" y="56437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3"/>
          <p:cNvSpPr/>
          <p:nvPr/>
        </p:nvSpPr>
        <p:spPr>
          <a:xfrm>
            <a:off x="1816200" y="56293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01960" y="6207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5643720" y="37861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8151840" y="37544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8070840" y="464652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8070840" y="6215040"/>
            <a:ext cx="83664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721480" y="61642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721480" y="458136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721480" y="51084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2832120" y="511812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5"/>
          <p:cNvSpPr/>
          <p:nvPr/>
        </p:nvSpPr>
        <p:spPr>
          <a:xfrm>
            <a:off x="8070840" y="508968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1 по графам 15-26 указываются сведения о числе коек, выписанных пациентах и проведенных ими пациенто-днях в дневных стационарах медицинских организаций, оказывающих помощь в амбулаторных условиях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я стационары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ах 2 - 75 по графам 15-26 заполняются данные только о работе дневных стационаров медицинских  организаций, оказывающих помощь в амбулаторных условиях по профиля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ационаров на дом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947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инэкономразвития России, Федеральный службы государственной статистики от 17 июля 2019 г. № 409 «Об утверждении методики определения возрастных групп населения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2205000"/>
            <a:ext cx="815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2020 году к населению старше   трудоспособного возраст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щины в возрасте 56 лет и старш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жчины в возрасте 61 год и стар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3316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1080" y="1214280"/>
            <a:ext cx="8605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4320" y="1082520"/>
            <a:ext cx="860580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4600" y="1315800"/>
            <a:ext cx="83012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, включая стационары на дому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93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268280"/>
            <a:ext cx="8535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, включая стационары на до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, включая стационары на дому 2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765000"/>
          <a:ext cx="8286480" cy="596124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552600"/>
                <a:gridCol w="722160"/>
                <a:gridCol w="814320"/>
                <a:gridCol w="695520"/>
                <a:gridCol w="931680"/>
                <a:gridCol w="812880"/>
                <a:gridCol w="814320"/>
              </a:tblGrid>
              <a:tr h="1461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1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4440" y="765000"/>
          <a:ext cx="8001000" cy="5793120"/>
        </p:xfrm>
        <a:graphic>
          <a:graphicData uri="http://schemas.openxmlformats.org/drawingml/2006/table">
            <a:tbl>
              <a:tblPr/>
              <a:tblGrid>
                <a:gridCol w="2544840"/>
                <a:gridCol w="288720"/>
                <a:gridCol w="590760"/>
                <a:gridCol w="718920"/>
                <a:gridCol w="865080"/>
                <a:gridCol w="648000"/>
                <a:gridCol w="693720"/>
                <a:gridCol w="825480"/>
                <a:gridCol w="825480"/>
              </a:tblGrid>
              <a:tr h="30492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, включая стационары на до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ы для особых ц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00-U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8400" y="1356840"/>
            <a:ext cx="83912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22 «Коды для особых целей» указываются сведения о пациентах с коронавирусной инфекцией (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)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1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идентифицирован)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07.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вирусная инфекция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ID-19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ирус не идентифицирован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+141.3000.21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+141.3500.22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, включая стационары на дому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+141.3000.21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, включая стационары на до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+141.3500.22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30 декабря 2002 г. № 413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от 30 декабря 2002 г. № 413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от 30.12.2002 г. № 413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от 13 ноября 2003 г. № 548 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Елена Александровна Бронникова</cp:lastModifiedBy>
  <cp:lastPrinted>2020-12-02T13:53:05Z</cp:lastPrinted>
  <dcterms:modified xsi:type="dcterms:W3CDTF">2020-12-09T01:39:18Z</dcterms:modified>
  <cp:revision>379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