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C80A-6045-4FB1-B9FB-B403122DA7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9AFF-5FDB-42BE-9961-8363FF04107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EC6-1045-4128-82A5-F9E17BB0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61C-5161-451F-9342-C437CD8D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51A-1287-40AE-802B-4220DB77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735-9469-4D62-990E-ABBD0104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20FF-E216-4DD8-B393-1D127CB5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08B-B700-4D63-B41A-55083A2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2BB9-9813-4DE3-9972-63FA595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9F01-0F26-4720-A068-C591E1C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97C7-331E-4C7A-A539-D26457AE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5A65-3FE4-41FF-8E85-8A2B0746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499-131B-46DE-9AC1-272F062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AB9-12F9-4491-8768-9E6ECFD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2A95-5C6A-4793-AB2F-91E6873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D5AE-BC57-4615-A160-C4EB786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8253-66DA-493B-9091-266F8FE7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81BE-9A37-4D47-9DAA-869B7821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EAD-50A7-44F6-9700-5A0E7FB6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E14B-B3FE-40CC-BA8E-1CD75BC4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C590-29EB-4A3D-A3CA-1BB1583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E834-1F5E-43E6-BCA8-31478C80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7716-9028-4AC1-971E-9DB112C1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E6C2-7B23-4E47-A4C0-86A3ABC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147-D3F5-4C56-8EF8-ABDDDE97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0A5F-1F6C-403D-8348-7A398C6F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D0DC-A1F5-475C-888F-CD2D7B9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BD9F-C1CC-42FD-A656-188AD9A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B725-D3A3-4E96-B52B-FB0F46B6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0B41-008D-48BE-8EC0-F2E192CA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50D0-B1E2-48DB-A3B1-E087C691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2A61-6D35-4EE3-804D-65471470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442F-DEA1-4C55-A8F0-4E6EA8FA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EB87-1AA9-4BD9-ADD5-8EEF751F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AF53E-FB76-47D4-A3F1-CE8BE515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D9D-442B-4E8D-A070-620C658E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D0A9-43F1-4C47-8540-86C7644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12E2-B060-4C0A-AAB3-6AACD80D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DB3A-ED3A-4442-BE8B-A3C60D3A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99F8-A8AB-452D-99C4-BEA4CD03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F9A7-28E8-430D-86D7-A8CA536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B807-BFC9-4C09-A94C-CD8F2C91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6137-2FBF-44E9-A60E-2F0E578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17A6-D87C-4E6A-A622-6FB9EEC4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B4DD-44D8-45C3-B6CC-559840D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F03-B0D6-480E-B69C-6C82F583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210-AABA-4D1E-8F7C-9AC350B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9CA-E914-4218-B906-2E6BE328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BA-2471-4196-A183-2652EB16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E12-C5FF-4747-A7B7-A175FE19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1331-2FE9-4834-BDD6-AE3264160B03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438E-7BF9-4939-AB6F-1413831B5CE9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2BD-E547-4C31-80B0-B097DB2D0BCD}" type="slidenum">
              <a:rPr b="0" lang="ru-RU" sz="1200" spc="-1" strike="noStrike">
                <a:solidFill>
                  <a:srgbClr val="d1eae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393-FFBC-4EAC-BA58-1E2E933E9466}" type="slidenum">
              <a:rPr b="0" lang="ru-RU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5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12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1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2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1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43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0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56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1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7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9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3" dur="1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1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125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3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4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0" dur="1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6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9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12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125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5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5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0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4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9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25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1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125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0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8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7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8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Елена Александровна Бронникова</cp:lastModifiedBy>
  <cp:lastPrinted>2016-12-07T09:58:05Z</cp:lastPrinted>
  <dcterms:modified xsi:type="dcterms:W3CDTF">2020-12-09T01:33:50Z</dcterms:modified>
  <cp:revision>5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