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022-4516-4B57-8033-DFEAB5CB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6DD-DF51-4F7D-ABD8-A23AE3E4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860-0C0E-4A72-A22D-30D346AC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D36-3226-48FA-B127-0635AB10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049F-ABAF-4F55-BA70-B153B66C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6B3F-D249-4D0D-944D-DE3A35B9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A1C-DE96-4B75-B795-3CDCCDA1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455-E5D6-40B3-AC9D-0095D92E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95A-CD89-47B1-A505-7A7E75C8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8B33-9D3F-4ECD-8602-CC528B98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347-9123-442E-8881-CE87867E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397-3376-4D3B-8AD4-E23C935A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F3FA-E519-464F-A36C-032BA585D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УЗ «ЗАБАЙКАЛЬСКОЕ КРАЕВОЕ ПАТОЛОГОАНАТОМИЧЕСКОЕ БЮ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Чита 2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Благодарю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218"/>
          <p:cNvSpPr/>
          <p:nvPr/>
        </p:nvSpPr>
        <p:spPr>
          <a:xfrm>
            <a:off x="2362320" y="-630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48"/>
          <p:cNvSpPr/>
          <p:nvPr/>
        </p:nvSpPr>
        <p:spPr>
          <a:xfrm>
            <a:off x="826920" y="545040"/>
            <a:ext cx="79218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бинеты, отделения, подразделения, ед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001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1484280"/>
          <a:ext cx="8135640" cy="3973680"/>
        </p:xfrm>
        <a:graphic>
          <a:graphicData uri="http://schemas.openxmlformats.org/drawingml/2006/table">
            <a:tbl>
              <a:tblPr/>
              <a:tblGrid>
                <a:gridCol w="3922560"/>
                <a:gridCol w="654120"/>
                <a:gridCol w="1598400"/>
                <a:gridCol w="1020960"/>
                <a:gridCol w="939600"/>
              </a:tblGrid>
              <a:tr h="7970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- 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-гинек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gridSpan="5"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лжение Табл. 1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62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атологоанатом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аличие отделения следует показывать только тогда, когда в отчете имеются штатные и занятые должности врачей, проверить наличие лицензии на данный вид услу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 наличии отделения указать 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нтрал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: патологоанатомических бю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ро судебно-медицинской эксперти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вания кр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ые цент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Прямоугольник 1"/>
          <p:cNvSpPr/>
          <p:nvPr/>
        </p:nvSpPr>
        <p:spPr>
          <a:xfrm>
            <a:off x="684360" y="5732640"/>
            <a:ext cx="806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100) Должности и физические лица медицинской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26920" y="6021360"/>
          <a:ext cx="7921800" cy="365040"/>
        </p:xfrm>
        <a:graphic>
          <a:graphicData uri="http://schemas.openxmlformats.org/drawingml/2006/table">
            <a:tbl>
              <a:tblPr/>
              <a:tblGrid>
                <a:gridCol w="1451160"/>
                <a:gridCol w="309600"/>
                <a:gridCol w="363600"/>
                <a:gridCol w="365040"/>
                <a:gridCol w="365040"/>
                <a:gridCol w="316080"/>
                <a:gridCol w="365040"/>
                <a:gridCol w="365040"/>
                <a:gridCol w="420840"/>
                <a:gridCol w="527040"/>
                <a:gridCol w="585720"/>
                <a:gridCol w="353880"/>
                <a:gridCol w="365400"/>
                <a:gridCol w="374400"/>
                <a:gridCol w="465120"/>
                <a:gridCol w="463680"/>
                <a:gridCol w="465120"/>
              </a:tblGrid>
              <a:tr h="365040">
                <a:tc>
                  <a:txBody>
                    <a:bodyPr lIns="57600" rIns="57600" tIns="0" bIns="0" anchor="b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тологоана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8031"/>
          <p:cNvSpPr/>
          <p:nvPr/>
        </p:nvSpPr>
        <p:spPr>
          <a:xfrm>
            <a:off x="1955880" y="-138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9371"/>
          <p:cNvSpPr/>
          <p:nvPr/>
        </p:nvSpPr>
        <p:spPr>
          <a:xfrm>
            <a:off x="949320" y="903960"/>
            <a:ext cx="11634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8. Оснащение основным технологическим оборудованием патолого-анатомического бюро (отделен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546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УКАЗАТЬ ПРИ НАЛИЧИИ , В ЦРБ, где есть отделения проставить количество только по строке 01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844640"/>
          <a:ext cx="8642160" cy="4572000"/>
        </p:xfrm>
        <a:graphic>
          <a:graphicData uri="http://schemas.openxmlformats.org/drawingml/2006/table">
            <a:tbl>
              <a:tblPr/>
              <a:tblGrid>
                <a:gridCol w="4281480"/>
                <a:gridCol w="547560"/>
                <a:gridCol w="954000"/>
                <a:gridCol w="952560"/>
                <a:gridCol w="952560"/>
                <a:gridCol w="954000"/>
              </a:tblGrid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единиц обору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макроскопического исследования и вырезки (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л для аутопсии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карусель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процессор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заливки парафиновых бло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с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ехан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отор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микрото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окраски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стейн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заключения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рабоч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универсаль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электро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поляризационн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цифров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539640" y="367560"/>
            <a:ext cx="8425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 Деятельность патолого-анатомического бюро (отде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1. Прижизненные патологоанатомические исследования биопсийного (операционного)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0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АННУЮ ТАБЛИЦУ ЗАПОЛНЯЮТ ТОЛЬКО 3 УЧРЕЖДЕНИЯ: ЗКОД, КМЦ и ЗКПА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9280" y="1844640"/>
          <a:ext cx="8748720" cy="4572000"/>
        </p:xfrm>
        <a:graphic>
          <a:graphicData uri="http://schemas.openxmlformats.org/drawingml/2006/table">
            <a:tbl>
              <a:tblPr/>
              <a:tblGrid>
                <a:gridCol w="3510000"/>
                <a:gridCol w="482760"/>
                <a:gridCol w="574560"/>
                <a:gridCol w="490680"/>
                <a:gridCol w="722160"/>
                <a:gridCol w="722520"/>
                <a:gridCol w="718920"/>
                <a:gridCol w="722520"/>
                <a:gridCol w="804600"/>
              </a:tblGrid>
              <a:tr h="346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-анатомические исследования биопсийного и операционного материал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-ным меди-цинск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-ция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патолого-анатом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патолого-анатомических исследований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иопсийного и операционного материала, включая последы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 (из стр. 4)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цитолог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(из стр. 9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9800" y="690480"/>
            <a:ext cx="961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2. Посмертные патологоанатомические исследования (вскрыт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ЛЯ ЦРБ по вскрытиям - категория сложности 1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484280"/>
          <a:ext cx="8280360" cy="5376960"/>
        </p:xfrm>
        <a:graphic>
          <a:graphicData uri="http://schemas.openxmlformats.org/drawingml/2006/table">
            <a:tbl>
              <a:tblPr/>
              <a:tblGrid>
                <a:gridCol w="3994200"/>
                <a:gridCol w="798480"/>
                <a:gridCol w="579240"/>
                <a:gridCol w="217440"/>
                <a:gridCol w="362160"/>
                <a:gridCol w="434880"/>
                <a:gridCol w="409680"/>
                <a:gridCol w="314280"/>
                <a:gridCol w="1170000"/>
              </a:tblGrid>
              <a:tr h="201240"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, оказывающих медицинскую помощь в стационарных услов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 (сумма  вскрытий умерших в стационаре по 14 форме и умерших на дому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ум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л-во вскрытий умерших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     умер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 (168 час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.: 18–59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22–27 недел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идышей при сроке беременности менее 22 нед. и массой тела менее 500 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 посмертного патолого-анатомического исследования матери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545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23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07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85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815"/>
          <p:cNvSpPr/>
          <p:nvPr/>
        </p:nvSpPr>
        <p:spPr>
          <a:xfrm>
            <a:off x="3516480" y="2246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893"/>
          <p:cNvSpPr/>
          <p:nvPr/>
        </p:nvSpPr>
        <p:spPr>
          <a:xfrm>
            <a:off x="5164200" y="2703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353960"/>
          <a:ext cx="8785440" cy="4596120"/>
        </p:xfrm>
        <a:graphic>
          <a:graphicData uri="http://schemas.openxmlformats.org/drawingml/2006/table">
            <a:tbl>
              <a:tblPr/>
              <a:tblGrid>
                <a:gridCol w="1865520"/>
                <a:gridCol w="458640"/>
                <a:gridCol w="674640"/>
                <a:gridCol w="441360"/>
                <a:gridCol w="701640"/>
                <a:gridCol w="784440"/>
                <a:gridCol w="664920"/>
                <a:gridCol w="441360"/>
                <a:gridCol w="700200"/>
                <a:gridCol w="701640"/>
                <a:gridCol w="676440"/>
                <a:gridCol w="674640"/>
              </a:tblGrid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СТАВ ПАЦИЕНТОВ В СТАЦИОНАРЕ, СРОКИ И ИСХОДЫ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0)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                                                                                                                       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                       по МКБ-10 пересмот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старш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боле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: 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ишечные инфек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А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197"/>
          <p:cNvSpPr/>
          <p:nvPr/>
        </p:nvSpPr>
        <p:spPr>
          <a:xfrm>
            <a:off x="3462480" y="2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55640" y="836640"/>
          <a:ext cx="7848720" cy="2268360"/>
        </p:xfrm>
        <a:graphic>
          <a:graphicData uri="http://schemas.openxmlformats.org/drawingml/2006/table">
            <a:tbl>
              <a:tblPr/>
              <a:tblGrid>
                <a:gridCol w="588960"/>
                <a:gridCol w="939960"/>
                <a:gridCol w="1081080"/>
                <a:gridCol w="892080"/>
                <a:gridCol w="590400"/>
                <a:gridCol w="938160"/>
                <a:gridCol w="939960"/>
                <a:gridCol w="938160"/>
                <a:gridCol w="939960"/>
              </a:tblGrid>
              <a:tr h="21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старше трудоспособного возраста (с 55 лет у женщин и с 60 лет у мужчи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Line 763"/>
          <p:cNvSpPr/>
          <p:nvPr/>
        </p:nvSpPr>
        <p:spPr>
          <a:xfrm>
            <a:off x="3375000" y="26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3284640"/>
          <a:ext cx="8785440" cy="2881080"/>
        </p:xfrm>
        <a:graphic>
          <a:graphicData uri="http://schemas.openxmlformats.org/drawingml/2006/table">
            <a:tbl>
              <a:tblPr/>
              <a:tblGrid>
                <a:gridCol w="598680"/>
                <a:gridCol w="743040"/>
                <a:gridCol w="838080"/>
                <a:gridCol w="625320"/>
                <a:gridCol w="812880"/>
                <a:gridCol w="663480"/>
                <a:gridCol w="665280"/>
                <a:gridCol w="738360"/>
                <a:gridCol w="885600"/>
                <a:gridCol w="811440"/>
                <a:gridCol w="661680"/>
                <a:gridCol w="741600"/>
              </a:tblGrid>
              <a:tr h="23652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26)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тав-леных по экст-ренным показа-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18  выписан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гр.28 умерл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заполнить списки по всем умершим, по взрослому и детскому населени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данные списки необходимо сверить с органами ЗАГС, врачами патологоанатомами и СМЭ в районе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ыверенные списки в 2-х экземплярах и форму 14 и 30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оставить ответственным сотрудникам Бюр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ием отчетов осуществляется в ЗКПА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зрослому сектору – Герасимова Анастасия Александровна, заведующая отделением (тел.31-43-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тскому сектору – Золотухина Анастасия Олеговна, заведующая отделением (тел. 31-42-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ститель начальника по ОМР Жевтнева Елена Владимировна (тел. 31-44-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9:15:16Z</dcterms:created>
  <dc:creator>User</dc:creator>
  <dc:description/>
  <dc:language>en-US</dc:language>
  <cp:lastModifiedBy>НН</cp:lastModifiedBy>
  <cp:lastPrinted>2023-12-13T07:13:07Z</cp:lastPrinted>
  <dcterms:modified xsi:type="dcterms:W3CDTF">2023-12-14T01:48:01Z</dcterms:modified>
  <cp:revision>61</cp:revision>
  <dc:subject/>
  <dc:title>Слайд 1</dc:title>
</cp:coreProperties>
</file>