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834-D655-4C22-8DC7-21021010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5AF-4731-4A4B-BD7B-14267514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F1E-7A33-420F-909A-135D0229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7B3-105C-4CAF-9593-53D955D9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C2A-9364-426D-9642-27A2C2D6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FD2-3D54-4563-8B20-021F413A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A80-3F27-4885-92EE-5D5BBEDB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C97-7E5A-423E-9123-10F67CEF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7A0-B412-4AE0-B0AA-23CE7C00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34E-D0F5-4D3F-B1B6-27F057EE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2EC-21D9-4AFE-8FA3-A6FF5290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1E5-A931-4C37-8403-E223486F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6E85-DF4B-4AA9-A55F-DDD1CD291C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чет по функциональной диагност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а 30 – таблицы 5401, 5402, 54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ЭКГ дистанционно – строка 3 таблицы 5402 и строка 51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хоКГ, УЗ исследование сосудов, ЭхоЭГ – в отчет по ультразвуковой диагностике (т. 51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яснительная запис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Штаты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если совместители – внешние или внутренние. Внутренние – основная специа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ппаратур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название – фирма производитель – год выпуска – тех. Состоя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taly.barkan@yandex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18:43:47Z</dcterms:created>
  <dc:creator>пк</dc:creator>
  <dc:description/>
  <dc:language>en-US</dc:language>
  <cp:lastModifiedBy>пк</cp:lastModifiedBy>
  <dcterms:modified xsi:type="dcterms:W3CDTF">2024-12-11T19:50:43Z</dcterms:modified>
  <cp:revision>2</cp:revision>
  <dc:subject/>
  <dc:title>Отчет по функциональной диагностике</dc:title>
</cp:coreProperties>
</file>