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EBF2-FED8-469A-856A-A6E52B8530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B2A4-F0BE-4B10-A1C4-EF355B4E3A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79EC-B328-4658-BA28-A8DCDD7DE6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5560-7DB1-404C-B74D-6F89DEBE4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67B0-D93F-4D93-BDFA-DEE59FC57C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8E94-4D95-402D-9AD1-87AD471CC6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484F-ACCC-4F9D-B5E3-CEC8B3B716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41D3-DCC1-4806-997D-F2C1BDA877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1F80-D6AD-4CAC-A60B-577CBECD0B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6233-5B31-443F-AA98-8630E6DF9F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9876-600D-42A0-AA75-3A44FCA9D2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0D9-FC16-47E0-B28F-5341BE74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E05-FCCB-450B-9F97-362252F2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F12-C117-44B1-8CEE-256D0002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E0A-D6A9-4EC3-9ADA-2EE77E9C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3D6-0125-4C85-A2C0-20DF673F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06D-E3CD-4825-8BDA-9BE9082B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F85-4879-4BD4-850D-6E4B8002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DF2-1630-47D7-B138-87C81E87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13B9-8439-4601-9002-03CDBE98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328-FA35-49BD-B819-9C7EEB70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F86-6A2C-46F2-9C5B-74FCFFE0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91D-D631-46CB-9589-FE8264B4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8891-630D-4EF1-B9EE-A15031B5A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0680" y="1641960"/>
            <a:ext cx="86662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А ФЕДЕРАЛЬНОГО СТАТИСТИЧЕСКОГО НАБЛЮ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6-ВН «СВЕДЕНИЯ О ПРИЧИНАХ ВРЕМЕННОЙ НЕТРУДОСПОСОБ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3024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87280" y="960120"/>
            <a:ext cx="7110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ом сведений для заполнения формы 16-ВН является  «Книга регистрации листков нетрудоспособности» (Ф.№036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34920" y="-27000"/>
            <a:ext cx="8858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6 – В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а приказом Росстата № 723 от 25.12.2014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36360" y="981000"/>
            <a:ext cx="1152720" cy="1225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197000" y="2479680"/>
            <a:ext cx="71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лучаев подсчитывается только по закрытым (по данному случаю) листкам нетрудо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201680" y="3935520"/>
            <a:ext cx="713412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16-ВН включаются свед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числе дней временной нетрудоспособности (ВН) - графа 5 - п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,  по  причинам ВН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числе случаев ВН – в графу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7280" y="5533920"/>
            <a:ext cx="711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с 7 по 16 – число случаев ВН, распределенных по пятилетним  возрастным групп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49320" y="2494080"/>
            <a:ext cx="1150920" cy="121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4"/>
          <a:stretch/>
        </p:blipFill>
        <p:spPr>
          <a:xfrm>
            <a:off x="42840" y="4005360"/>
            <a:ext cx="1152720" cy="122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5"/>
          <a:stretch/>
        </p:blipFill>
        <p:spPr>
          <a:xfrm>
            <a:off x="49320" y="553572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648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8000" y="633240"/>
          <a:ext cx="9036000" cy="4486320"/>
        </p:xfrm>
        <a:graphic>
          <a:graphicData uri="http://schemas.openxmlformats.org/drawingml/2006/table">
            <a:tbl>
              <a:tblPr/>
              <a:tblGrid>
                <a:gridCol w="718920"/>
                <a:gridCol w="649440"/>
                <a:gridCol w="431640"/>
                <a:gridCol w="459000"/>
                <a:gridCol w="909720"/>
                <a:gridCol w="863640"/>
                <a:gridCol w="502920"/>
                <a:gridCol w="433440"/>
                <a:gridCol w="574920"/>
                <a:gridCol w="433080"/>
                <a:gridCol w="432000"/>
                <a:gridCol w="503280"/>
                <a:gridCol w="576360"/>
                <a:gridCol w="504720"/>
                <a:gridCol w="477720"/>
                <a:gridCol w="565200"/>
              </a:tblGrid>
              <a:tr h="2800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-цион-ные и паразитарны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00 - B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5400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187280" y="960120"/>
            <a:ext cx="7110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еднюю длительность ЛН по всем ноз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авнении с прошлым г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34920" y="1890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 ПРИ ЗАПОЛН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36360" y="981000"/>
            <a:ext cx="1152720" cy="1225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197000" y="2479680"/>
            <a:ext cx="71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редняя длительность ВН изменилась более, чем на 10% по сравнению с предыдущим годом - объяснить прич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197000" y="4006800"/>
            <a:ext cx="7054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 по туберкулезу показывают только МО, оказы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ую (противотуберкулезную) медицинску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187280" y="5533920"/>
            <a:ext cx="711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, обслуживающие детское население, заполняют строки 53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ход за больным» и ЛН, выданные работающим подросткам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чинам В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3"/>
          <a:stretch/>
        </p:blipFill>
        <p:spPr>
          <a:xfrm>
            <a:off x="49320" y="2494080"/>
            <a:ext cx="1150920" cy="121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4"/>
          <a:stretch/>
        </p:blipFill>
        <p:spPr>
          <a:xfrm>
            <a:off x="42840" y="4005360"/>
            <a:ext cx="1152720" cy="1225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49320" y="553572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160" y="836640"/>
          <a:ext cx="9094680" cy="3779640"/>
        </p:xfrm>
        <a:graphic>
          <a:graphicData uri="http://schemas.openxmlformats.org/drawingml/2006/table">
            <a:tbl>
              <a:tblPr/>
              <a:tblGrid>
                <a:gridCol w="1171440"/>
                <a:gridCol w="803520"/>
                <a:gridCol w="447480"/>
                <a:gridCol w="534960"/>
                <a:gridCol w="1068480"/>
                <a:gridCol w="1001520"/>
                <a:gridCol w="438480"/>
                <a:gridCol w="431640"/>
                <a:gridCol w="431640"/>
                <a:gridCol w="384480"/>
                <a:gridCol w="385560"/>
                <a:gridCol w="385920"/>
                <a:gridCol w="384120"/>
                <a:gridCol w="384120"/>
                <a:gridCol w="420840"/>
                <a:gridCol w="42048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менность, роды и послеродо-вой 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00 - O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3"/>
          <p:cNvSpPr/>
          <p:nvPr/>
        </p:nvSpPr>
        <p:spPr>
          <a:xfrm>
            <a:off x="0" y="4797360"/>
            <a:ext cx="90583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ы все заболевания, являющиеся осложнением беременности, до декретного отпуска, а также осложнения после родов на протяжении всего послеродового периода. Также в этой строке указываются сведения о ВН по причине абортов (из строки 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9320" y="4797360"/>
            <a:ext cx="9094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 же строки включают случаи, связанные с протезированием, выполнением донорских функций, обследованием, в результате которого пациенту был поставлен диагноз «здоров» (ххı класс МКБ-Х «факторы, влияющие на состояние здоровья населения и обращения в медицинские организации ( с профилактическими и иными целями). Представить пояснительные запи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-36360" y="766800"/>
          <a:ext cx="9180360" cy="3957480"/>
        </p:xfrm>
        <a:graphic>
          <a:graphicData uri="http://schemas.openxmlformats.org/drawingml/2006/table">
            <a:tbl>
              <a:tblPr/>
              <a:tblGrid>
                <a:gridCol w="1117440"/>
                <a:gridCol w="746280"/>
                <a:gridCol w="500040"/>
                <a:gridCol w="993600"/>
                <a:gridCol w="995400"/>
                <a:gridCol w="903240"/>
                <a:gridCol w="425520"/>
                <a:gridCol w="415800"/>
                <a:gridCol w="416160"/>
                <a:gridCol w="334800"/>
                <a:gridCol w="335160"/>
                <a:gridCol w="333360"/>
                <a:gridCol w="415800"/>
                <a:gridCol w="417600"/>
                <a:gridCol w="414360"/>
                <a:gridCol w="41580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сем причин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836640"/>
          <a:ext cx="9105840" cy="3779640"/>
        </p:xfrm>
        <a:graphic>
          <a:graphicData uri="http://schemas.openxmlformats.org/drawingml/2006/table">
            <a:tbl>
              <a:tblPr/>
              <a:tblGrid>
                <a:gridCol w="1152360"/>
                <a:gridCol w="806760"/>
                <a:gridCol w="449280"/>
                <a:gridCol w="536400"/>
                <a:gridCol w="1073160"/>
                <a:gridCol w="1004760"/>
                <a:gridCol w="439920"/>
                <a:gridCol w="433440"/>
                <a:gridCol w="433440"/>
                <a:gridCol w="385560"/>
                <a:gridCol w="387360"/>
                <a:gridCol w="387360"/>
                <a:gridCol w="385920"/>
                <a:gridCol w="385560"/>
                <a:gridCol w="422280"/>
                <a:gridCol w="42228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уск по беремен-ности и род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3"/>
          <p:cNvSpPr/>
          <p:nvPr/>
        </p:nvSpPr>
        <p:spPr>
          <a:xfrm>
            <a:off x="-27000" y="4797360"/>
            <a:ext cx="905832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сть рожавшие в возрасте 50-54 и 55-59 лет, то обязательно должны быть предоставлены документы, подтверждающие факт родов (№ больничного листа, выписка из родильного до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строке не должны указывать отпуск по уходу за малолетними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147600" y="-31608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Таблица 2610 в Ф 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1042920" y="29671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ормируется на основании данных медицинских организаций. Отражается количество инвалидов, которые состоят на уч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4520" y="-3636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1835280" y="1471680"/>
            <a:ext cx="53179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Спасибо</a:t>
            </a:r>
            <a:r>
              <a:rPr b="0" lang="en-US" sz="5400" spc="-1" strike="noStrike">
                <a:solidFill>
                  <a:srgbClr val="002060"/>
                </a:solidFill>
                <a:latin typeface="Arial Black"/>
                <a:ea typeface="Arial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за внимание</a:t>
            </a:r>
            <a:r>
              <a:rPr b="0" lang="en-US" sz="5400" spc="-1" strike="noStrike">
                <a:solidFill>
                  <a:srgbClr val="002060"/>
                </a:solidFill>
                <a:latin typeface="Arial Black"/>
                <a:ea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179280" y="4797360"/>
            <a:ext cx="792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овдра Ольга Леонидо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-mail: olgashovdra@rambler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л. 8(914) 439-07-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0:10:09Z</dcterms:created>
  <dc:creator>Светлана</dc:creator>
  <dc:description/>
  <dc:language>en-US</dc:language>
  <cp:lastModifiedBy>Елена Александровна Бронникова</cp:lastModifiedBy>
  <dcterms:modified xsi:type="dcterms:W3CDTF">2019-12-20T01:12:39Z</dcterms:modified>
  <cp:revision>403</cp:revision>
  <dc:subject/>
  <dc:title>Слайд 1</dc:title>
</cp:coreProperties>
</file>