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5598-99CD-4465-8094-A7C3BE8713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6A6E-D668-42B1-9175-464F78642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97AE-6B3B-4CC3-8389-E3FAF7A1A7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BE6B-694C-4F9B-9B18-07DAD184F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B4E8-E0D1-45A2-9A42-B9FD726DE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95A-AA69-4992-BFC6-21AF58C4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47C-FF9D-4566-83B8-B686B6BF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971-3178-4AF5-BAF2-CD4D50A3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4C8-7C76-4572-AC2E-7EA8214B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238E-3C1F-4BB4-ACCC-E8F4D9C6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F9BA-2EA6-4C4D-A472-54E2428E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2AEC-8B01-44B9-A126-C42C17E7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2CD5-5AAD-4E2F-A7C9-AF061970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D97E-BCBC-4BC9-A0BE-F4AFCDEA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5366-88DD-4AC2-8B9C-2B488694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EB58-98D9-4247-8F69-9EED201D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E83-7DD1-4640-B781-AEF69B67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0383-8CCB-4D16-BB77-9B279BEE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8BE4-A019-4186-81E3-E7573E69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7408-ADFE-4FF5-9A51-CECCBE00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DB20-FD8F-41C4-A3A8-16FB25AF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7F38-5668-4B2A-8E3A-23E8B5FF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D80-5075-408F-B3FC-796202C0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560-BC8D-4F0E-A0F7-9ED8809B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1C2-660E-48CC-A2E8-5D399921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1DA-A04D-49DE-8E73-B48A01AB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5B5-B057-409F-88E1-B247227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DC8-BF35-4EB8-937A-ECA0FD19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9E3-9190-448C-96DA-8833F6F9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B622-F8BF-4534-8F5D-5CE618D44F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DFFE-07B6-48C2-80E1-0B582C86AC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за 2019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З З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у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казывается число пациентов, с ВИЧ-инфекцией с проявлениями туберкулё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E182-7761-4BC4-BCC9-E1F7A7598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500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ежформенный контроль с формой 13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ой 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5000 включают женщин, проживающих на прикрепленной территории и находящихся под диспансерным наблюдением в данной медицин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казывается общее число беременных женщин с болезнью, вызванной ВИЧ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ивших беременность в отчетном го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троке 2 показываются сведения о тех из них, кто завершил беременность родами в отчетном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746C-ECD4-4F8E-8C69-523622777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3 пок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е число пациен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езнью, вызванной ВИЧ, из числа состоявших под наблюдением в отчетном году, зарегистрированных для ле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4 - те из них, кто был зарегистрирован для леч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первые в жизни установленным диагноз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афа 5 не заполня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407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201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C3CC-5984-4DCB-A640-E2BB322BD8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5343-6A8C-4005-BBE6-53082F070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рочник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ка 1, пункт 2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ловия контроля: строка 1, пункт 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пункт 3 (В20-24)+пункт 4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0F2B-F96F-4633-9FC9-8C6529E16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476280"/>
            <a:ext cx="86090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обследованных на антитела к ВИЧ в отчетном году,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число лиц, у которых при исследовании крови на антитела к ВИЧ получены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2) выявлено: пациентов больных ВИЧ-инфекцией (код МКБ 10 В20-В24) 3 _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онтроль с ф.61, т.1000, стр.1+2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 с бессимптомным инфекционным статусом (код МКБ-10 Z21)  4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__контроль с ф.61, т.1000, стр.59+60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7000"/>
            <a:ext cx="16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очника 3100, пункт2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FF95-7E27-4F22-8061-A75B19708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подстрочника 3100, пункт  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8422-CAAC-48A2-B8D6-4F7393632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 подстрочника 3100,  пункт 1-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подстрочник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100, пункт 4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.1000, стр.57-58, гр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E7D1-DF7B-4ECD-AAE4-3C70F72CC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ED94-4B39-4911-BBE5-70CB44E2A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отчетном году – 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02F6-7527-4097-951A-9A3566722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92120" y="1555920"/>
          <a:ext cx="8228160" cy="4735440"/>
        </p:xfrm>
        <a:graphic>
          <a:graphicData uri="http://schemas.openxmlformats.org/drawingml/2006/table">
            <a:tbl>
              <a:tblPr/>
              <a:tblGrid>
                <a:gridCol w="3384720"/>
                <a:gridCol w="384120"/>
                <a:gridCol w="768240"/>
                <a:gridCol w="923760"/>
                <a:gridCol w="922680"/>
                <a:gridCol w="922320"/>
                <a:gridCol w="922320"/>
              </a:tblGrid>
              <a:tr h="386640"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marL="20520"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с впервые в жизни установленным диагно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, В20.7, 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с проявлениями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инфек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болезней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: с бактериовыделением, определяемым любыми метод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5): методом простой микроскопии мокро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5)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ножественн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marL="290520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широк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1) обследовано на иммунны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имели уровень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    более 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которым установлен диагноз вирусного гепатита (из стр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гепатит 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6, В18.0, В1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патит 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7.1, В18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всего (из стр.1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муж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городских жи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565200" y="827640"/>
            <a:ext cx="8156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spAutoFit/>
          </a:bodyPr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. Диспансерное наблюдение за пациентами, больными ВИЧ-инфекцией с проявлениями туберкуле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400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человек – 7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701320" y="2274840"/>
            <a:ext cx="347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нтроль с ф. 33, т. 2100,стр.13, гр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лево 8"/>
          <p:cNvSpPr/>
          <p:nvPr/>
        </p:nvSpPr>
        <p:spPr>
          <a:xfrm>
            <a:off x="5429160" y="2325600"/>
            <a:ext cx="276480" cy="25884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62680" y="2584440"/>
            <a:ext cx="8823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   т. 2000, стр. 21, 22, 41, гр.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899400" y="2584440"/>
            <a:ext cx="8571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т. 2000,стр.21,22,41, гр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84040" y="128520"/>
            <a:ext cx="851400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аблицу 40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только тех пациентов, у которых туберкулез диагностирован как проявление болезни, вызванной ВИЧ, и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е включают пациент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которых туберкулез был выявлен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о установления диагноз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9-12-19T04:25:39Z</dcterms:modified>
  <cp:revision>210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