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3837-DD17-4A50-B19F-057B28EC9C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8E7B-4516-4981-B1DD-25B9DF9D4C6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0" name="Text Box 2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E60-BA7B-4640-B9C9-501AE6B5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4D5-18B0-436C-B513-14399799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972C-375C-43F3-A692-57B8FB91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13C-EC7D-4F76-AABB-23DB1186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B0AF-6F64-486C-8F8E-9EAC415D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063-5E66-4168-B884-757CE6D4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88CC-230F-435D-A6D2-DBA25BFF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520-074C-4435-95CD-9C5A91D4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558-307F-46A0-8C86-82935FB1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D5C-D0DF-475D-9F2A-B244DA13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6E8-FFFF-4403-8330-A8E6B05F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8EB-8A45-4AED-8A53-60072A32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7AC2-106A-4BE5-9143-2FD7BDA783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довой отчет за 2019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ональная диагно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95280" y="1989000"/>
          <a:ext cx="8353440" cy="1870200"/>
        </p:xfrm>
        <a:graphic>
          <a:graphicData uri="http://schemas.openxmlformats.org/drawingml/2006/table">
            <a:tbl>
              <a:tblPr/>
              <a:tblGrid>
                <a:gridCol w="466560"/>
                <a:gridCol w="1646280"/>
                <a:gridCol w="1290600"/>
                <a:gridCol w="773280"/>
                <a:gridCol w="1033560"/>
                <a:gridCol w="1788840"/>
                <a:gridCol w="1354320"/>
              </a:tblGrid>
              <a:tr h="239040"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 врач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й или совмест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если совместитель – основная специальность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, которые выполня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, которыми владе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4"/>
          <p:cNvSpPr/>
          <p:nvPr/>
        </p:nvSpPr>
        <p:spPr>
          <a:xfrm>
            <a:off x="324000" y="1484280"/>
            <a:ext cx="43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1497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ППА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4797360"/>
          <a:ext cx="8353440" cy="365040"/>
        </p:xfrm>
        <a:graphic>
          <a:graphicData uri="http://schemas.openxmlformats.org/drawingml/2006/table">
            <a:tbl>
              <a:tblPr/>
              <a:tblGrid>
                <a:gridCol w="520560"/>
                <a:gridCol w="2916360"/>
                <a:gridCol w="2227320"/>
                <a:gridCol w="1481040"/>
                <a:gridCol w="12081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готов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д ввода в 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. состоя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компьютерные электрокардиографы – аппараты (Кардиометр, Поли-Спектр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CG-Easy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CG-Dongle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кардиофлешк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ультразвуковые методы (ЭхоКГ, УЗДГ сосудов, ЭхоЭГ, нейросонография) –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30 форме – в отчет по УЗИ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о в пояснительной записке указать количество и на каком аппарат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ульсоксиметрию в рамках врачебного осмотра в отчет не внос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1341360"/>
            <a:ext cx="78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кан Виталий Станислав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жная клиническая больница на ст.Чита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Ж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Чита, ул.Горбунова,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 раб:  8 914 516 570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 сот:   8 924 270 933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ly.barkan@yandex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9T00:55:17Z</dcterms:created>
  <dc:creator>пк</dc:creator>
  <dc:description/>
  <dc:language>en-US</dc:language>
  <cp:lastModifiedBy>пк</cp:lastModifiedBy>
  <dcterms:modified xsi:type="dcterms:W3CDTF">2019-12-19T04:31:56Z</dcterms:modified>
  <cp:revision>20</cp:revision>
  <dc:subject/>
  <dc:title>Слайд 1</dc:title>
</cp:coreProperties>
</file>