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6C1-3567-404E-8848-BE306B20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7F7-FD1E-4E29-892F-0937D60A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04E-5A01-4A25-B212-64B3E984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17D-6BD1-4D90-B19A-3293EBEB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267-ED23-4826-9B6D-31D0BD7E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0BE-B55D-4459-B42D-57955D1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1CE-0726-4379-91D6-6A0F1118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D28-D1EF-44D3-AA99-0988F4A0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609-B106-407C-BD25-4EE6C794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A61-8B28-432D-B272-930E6B6F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A19-33AD-440E-BC6D-25AC178A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9A9-8522-4274-8417-E2ABC4A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98CA-24F4-476E-A985-4F6B0DAE4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469080"/>
            <a:ext cx="79218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единица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431496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них: изготавливающие лекарственные препара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ьного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-диагностические кабине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7497"/>
          <p:cNvSpPr/>
          <p:nvPr/>
        </p:nvSpPr>
        <p:spPr>
          <a:xfrm>
            <a:off x="-734760" y="-1795680"/>
            <a:ext cx="106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100)    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Коды по ОКЕИ: человек – 792;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371"/>
          <p:cNvSpPr/>
          <p:nvPr/>
        </p:nvSpPr>
        <p:spPr>
          <a:xfrm>
            <a:off x="516240" y="904320"/>
            <a:ext cx="8193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ы по ОКЕИ: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539640" y="474480"/>
            <a:ext cx="842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ды по ОКЕИ: человек – 792; единица – 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71400" y="690840"/>
            <a:ext cx="831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Код по ОКЕИ: человек – 7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484280"/>
          <a:ext cx="8280360" cy="515772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ОКЕИ: человек – 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согласно отправленной формы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вместе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 протоколам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тологоанатомических вскрытий в районе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ончарова Марина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ач-статистик Хамина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dcterms:modified xsi:type="dcterms:W3CDTF">2019-12-19T02:09:59Z</dcterms:modified>
  <cp:revision>47</cp:revision>
  <dc:subject/>
  <dc:title>Слайд 1</dc:title>
</cp:coreProperties>
</file>