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C60-C2B3-402F-948B-1C1ACD10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FF2-6786-4B50-AE7B-5EE70E2A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5F3-AA36-4E36-A715-E3CE3826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C92-024C-4FA1-B29D-5DA73054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9C3E-66EB-4844-903B-A37E2290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0103-CA57-4F7D-81A8-866271E8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A772-6BFF-4573-BA7D-715EBBCA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0E5-88CB-4EBD-A96F-D48AABF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2B3F-D2B6-4A65-A798-C61C283C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0386-7047-4C7B-929F-1AC4EA5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DDF0-0095-4E10-AC2B-FC97B1C1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77F-E419-49F1-B206-E9B15D19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4A30-BC64-4069-B761-965509D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E40E-14FE-45A0-99B3-37603DD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FB99-E7B3-41D7-B217-4F995B7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E83D-1D00-49F4-9987-E7461DDA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029A-0993-4D2C-BF18-1327D4C8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F14C-B150-4776-900E-D3E8874C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A3E5-236F-4D0D-AB04-F55F8F2A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891C-5459-487F-ACA8-186C1F5F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82F5-83EE-4D3C-A302-8E93B8AC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7AFF-FCDF-4149-B64B-4511E7A7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F86-541F-4132-A1B8-0B9B2A9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36D7-BFDD-422E-999D-89829D29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04F3-733C-451E-B0E3-92259CE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B160-CE6B-4C69-B1EF-5CB40E0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4AB3-17F1-48A5-A34F-9F7FB52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1967-F132-422D-9325-90592153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7E25-0652-45A3-B6D3-BBC8E57A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49EE-9990-4F63-80AC-F2B7015D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FE504-0453-40E7-94EE-1368D5B2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8089-436B-4535-AD75-8B73C0D6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3FD9-468D-465D-B75C-EB2F719D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76A-69C2-4E3A-9F6B-04DD2FA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642A-0190-48FB-AD20-7598294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E93E-4EA7-412E-A4E4-488925EC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44B2A-7196-42D8-8FBF-57FE55B5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B3715-C491-433A-9AB6-29183160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E865-B173-4FAB-8AB9-08E4D5A8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0892-A5C2-4F79-A39F-B1B83E4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86DE-E512-4551-A131-F68C3786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F0F8-5237-4E7D-9D2F-66291730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378A-EF33-4E52-A973-FABB5366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4A6-9ED9-442A-BAF9-83370A94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35F-234D-40BF-852E-8E4ACA42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138-CBDF-4938-BEFC-F5443812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5F5-264A-4A52-AAA1-1AC7EEA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028-D9AF-4CE0-9C27-9E4CDBBB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A637-DCC1-4F58-AA0F-DF8E2189F9B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D046-4A02-47B6-9AF6-4F81DC65120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8E94-93D9-47E5-999B-C53ABDF3EA7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89B9-A09B-44E4-9D86-593B2A06293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8070840" cy="394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15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onstantia"/>
              </a:rPr>
              <a:t>Брендирование автомобилей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ализация мероприятий по приобретению медицинского автомобильного транспорта в 2021-2022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Главная медсестра\Desktop\авто у приемного — копия.jpg"/>
          <p:cNvPicPr/>
          <p:nvPr/>
        </p:nvPicPr>
        <p:blipFill>
          <a:blip r:embed="rId1"/>
          <a:stretch/>
        </p:blipFill>
        <p:spPr>
          <a:xfrm>
            <a:off x="457200" y="262728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Главная медсестра\Desktop\авто у гаража.jpg"/>
          <p:cNvPicPr/>
          <p:nvPr/>
        </p:nvPicPr>
        <p:blipFill>
          <a:blip r:embed="rId2"/>
          <a:stretch/>
        </p:blipFill>
        <p:spPr>
          <a:xfrm>
            <a:off x="4648320" y="26272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оорловская участковая больн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1 год – 16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2 год - 1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Users\Главная медсестра\Desktop\нуб нива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xuJLec</dc:creator>
  <dc:description/>
  <dc:language>en-US</dc:language>
  <cp:lastModifiedBy>Главная медсестра</cp:lastModifiedBy>
  <dcterms:modified xsi:type="dcterms:W3CDTF">2022-11-11T09:06:4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