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F5EB66-95E8-4967-BB53-77005EEC20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7B7B6C-4A13-4D10-8227-835439BFC6AC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AE298E-2357-4CA9-92BB-EE2A87181A45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DE0DCD-1C6A-48D3-910F-6C71CA2A29DE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11CF99-36B9-482D-8815-B1AA2C2BC43A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765EB-4E3F-4F79-8308-C66A2008A8F2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4DD004-F22C-47D5-9689-0641029514CF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D9825-5460-4610-99A8-762C2E91D36C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F9F118-65CB-4DCB-BF39-ECF7982835F7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2CC849-C51B-4310-8D24-D3F77EF47CC3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72E4B-62F6-4EC2-88B4-F56B83E5A91C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651FAC-1B1D-4DD1-B53C-0E9B89CEEBAF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AB4793-122D-4A13-921C-1A7F41298FF7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В таблице отражаются сведения о прерывании беременности в срок до 12 недель. В графе 4 показывается общее число прерываний беременности в срок до 12 недель, в графах 5-9 – распределение по возрастам. Графа 4 равна сумме граф 5,6,7,8,9. Из граф 4 выделяются: прерывания беременности у первобеременных (графа 10), у ВИЧ – инфицированных (графа 1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По срокам 2-6 отражаются: другие аномальные продукты зачатия (строка 2), самопроизвольный аборт (строка 3), медицинский аборт (строка 4), другие виды аборты (криминальный) (строка 5), аборт неуточненный (внебольничный) (строка 6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Строка 1 равна сумме срок 2-6 по всем граф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Кроме того, в строках 7-9 отражаются: внематочная беременность (строка 7), пузырный занос (строка 8), неудачная попытка аборта (строка 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293B0-EBEC-47B2-BE4F-915BF9C39298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0B0-86D0-42AF-8FF9-45F0238C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D79C-C50C-4AFD-A08B-AEB5C11A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C546-2D9B-4167-BDBF-051B458C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473B-8998-4447-842B-74E5CA035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3194-4150-4623-BECE-ADD88809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5A8D-7590-4630-99A5-54766771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8E11-6FEB-4CF9-BE3F-849A4124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EE2F-ADA2-4D7C-A78C-8AF74295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8D72-E093-4D91-B0F3-7FCEE45E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2FFA-1ED4-4199-9564-11BC7F7F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FAD2-3DA6-44D5-A9EB-E42485E5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2ED7-9FBD-439D-9422-011A5EF4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752A-02B1-428A-8E12-4E046F20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FADA-B4AB-44AA-9DEE-70713E43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A889-B90D-4C01-86A4-4E3B8F03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5F8A-9C9D-4E56-96A9-6E2E077E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0871-D247-482A-B318-9326E213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D9CE5-965C-456E-83E3-8E8655E8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77636-70E6-4ACF-AE2B-59BFFA00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3D591-1847-4187-B982-F42D3CC7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EFA2A-8978-4023-BE16-6BF79130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B6E9E-B455-4097-BF59-66C8B126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05AD-0554-4B6A-B2F3-3E9F3890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7295A-C056-4325-BE1C-9BAD5D94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14FC2-8E88-4EEC-853B-B7D6F65C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81A71-F2FF-4188-A8A1-8F283126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C886F-6CD6-473F-BE63-0544AF5C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BB0CB-9695-4B02-A453-4121C4EF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8C9E0-D41B-4074-89B1-E0716743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81D23-9248-46DC-BA99-B559D01F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E347A-3EB1-4CF4-B587-2B5D7AE7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D1690-CD6C-45EC-BD5B-FF1E1963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CAFA1-611A-4D40-AD14-7DC2E62F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5A01-9B05-488E-BD4F-1C4084A7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E07F5-AD9B-407D-BBAC-81762ECE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524CA-D1D4-4E90-9561-081E7034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8B656-3832-44BA-AF94-67FD1701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A598E-0CA2-4960-A02B-F50CDC1C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8DF41-F718-4759-ADD3-35E472BB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8E535-BE4E-4880-BFB5-56D150BE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7141A-EFAA-47F8-A98C-37997093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668FA-D99B-4253-A023-F1B57EBC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24A9C-A937-4345-8422-664D0AFE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23E1-5DC8-404F-AF23-9EBC7C7E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7818-81B7-49FC-AAE1-4E9D27BC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EB1E-F21F-4370-97C1-827156EF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8441-9E22-4031-9DBB-453D6A3B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C901-516F-4EC2-9B04-B20E3FF6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758880"/>
            <a:ext cx="34434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37"/>
          <p:cNvSpPr/>
          <p:nvPr/>
        </p:nvSpPr>
        <p:spPr>
          <a:xfrm>
            <a:off x="11815920" y="758880"/>
            <a:ext cx="38412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CA81D4-0C4E-4D73-933E-44B539E46325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762120"/>
            <a:ext cx="9142560" cy="533376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271080" y="762120"/>
            <a:ext cx="2923920" cy="533376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D0F8B5-4D38-4881-AAA2-08D162F001B9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6FF698-D84B-4BE0-9EB2-B7B974CDA8E7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0" y="758880"/>
            <a:ext cx="34434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Rectangle 37"/>
          <p:cNvSpPr/>
          <p:nvPr/>
        </p:nvSpPr>
        <p:spPr>
          <a:xfrm>
            <a:off x="11815920" y="758880"/>
            <a:ext cx="38412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49884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B85F0-80D8-4EB6-8D4F-8901F9F364EF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9920" y="1850760"/>
            <a:ext cx="73152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300"/>
            </a:br>
            <a:br>
              <a:rPr sz="5300"/>
            </a:br>
            <a:br>
              <a:rPr sz="5300"/>
            </a:br>
            <a:r>
              <a:rPr b="1" lang="ru-RU" sz="5300" spc="-1" strike="noStrike">
                <a:solidFill>
                  <a:srgbClr val="ffffff"/>
                </a:solidFill>
                <a:latin typeface="Corbel"/>
              </a:rPr>
              <a:t>Форма № 13</a:t>
            </a:r>
            <a:br>
              <a:rPr sz="5300"/>
            </a:br>
            <a:r>
              <a:rPr b="1" lang="ru-RU" sz="5300" spc="-1" strike="noStrike">
                <a:solidFill>
                  <a:srgbClr val="ffffff"/>
                </a:solidFill>
                <a:latin typeface="Corbel"/>
              </a:rPr>
              <a:t>«Сведения о беременности с абортивным исходом»</a:t>
            </a:r>
            <a:endParaRPr b="0" lang="en-US" sz="5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613320" y="3825360"/>
            <a:ext cx="84564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Т.К. Гребенник </a:t>
            </a:r>
            <a:endParaRPr b="0" lang="en-US" sz="26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t_grebennik@oparina4.ru)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Заведующий организационно-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методическим отделом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ФГБУ «НМИЦ АГП им. В.И. Кулакова» МЗ РФ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9" name="Footer Placeholder 17"/>
          <p:cNvSpPr/>
          <p:nvPr/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100" spc="-1" strike="noStrike">
                <a:solidFill>
                  <a:srgbClr val="1a616f"/>
                </a:solidFill>
                <a:latin typeface="Corbel"/>
              </a:rPr>
              <a:t>12 декабря, 2018 г.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2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22240" y="777960"/>
            <a:ext cx="816156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Другие анормальные продукты зачатия (О02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385800" y="2923920"/>
            <a:ext cx="7907400" cy="30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 данную рубрику входят диагнозы «анэмбриония», «неразвивающаяся беременность»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сключен: бумажный плод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 необходимости идентифицировать любое связанное с другими анормальными продуктами зачатия (О02) осложнение используют дополнительный код рубрики (О08)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747960" y="293760"/>
            <a:ext cx="787896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Самопроизвольный </a:t>
            </a: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аборт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(О03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22600" y="1581120"/>
            <a:ext cx="7770960" cy="51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анный код используется, если аборт произошел в стационаре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самопроизвольно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, т.е. в следующих случаях: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беременная пациентка находилась в стационаре. Аборт самопроизвольно начался и произошел в условиях стационара;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беременная пациентка поступила с диагнозом «начавшийся выкидыш», терапия, направленная на сохранение беременности, не проводилась или была неэффективна, самопроизвольный аборт произошел в условиях стационара;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пациентка поступила с диагнозом «аборт в ходу», аборт произошел в условиях стационара.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Если пациентка поступила в стационар после совершившегося самопроизвольного выкидыша вне стационара, случай необходимо указывать в строке 6 (аборт неуточненный)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4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617640" y="419040"/>
            <a:ext cx="7986600" cy="14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Медицинский аборт (О04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421080" y="576360"/>
            <a:ext cx="8578800" cy="59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анный код используется, если в стационаре произошло прерывание развивающейся беременности по желанию женщины (Таб. 1000) или по медицинским показаниям, независимо от метода прерывания беременности (инструментальный, консервативный)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сроке беременности более 12 недель прерывание беременности по желанию женщины не проводится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едицинские аборты, проведенные по медицинским показаниям, в том числе медикаментозным методом, показываются в таблице 1101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5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67120" y="867960"/>
            <a:ext cx="772488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Другие виды аборта (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05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498840" y="2064960"/>
            <a:ext cx="7794720" cy="39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анный код используется в случае наличия криминального аборта, независимо от того, на какой его стадии пациентка поступила в стационар (любой аборт, проведенный вне медицинских организаций любой формы собственности)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66760" y="732960"/>
            <a:ext cx="76820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Аборт неуточненный (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0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634920" y="1839600"/>
            <a:ext cx="7658280" cy="41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анный код используется в случае наличия внебольничного аборта, т.е. при поступлении пациентки после свершившегося вне какой-либо медицинской организации («на дому») самопроизвольного аборта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66760" y="755280"/>
            <a:ext cx="7426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Внематочная беременность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(O0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758760" y="1952640"/>
            <a:ext cx="7534440" cy="403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ключены: О00.0, О00.1, О00.2, О00.8, О00.9 (см. МКБ-10)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  необходимости идентифицировать любое связанное с внематочной беременностью (О00) осложнение используют дополнительный код рубрики О08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66760" y="868320"/>
            <a:ext cx="763596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Пузырный занос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(O01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690720" y="2162160"/>
            <a:ext cx="7677000" cy="378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ключены: О01.0, О01.1, О01.9. (см. МКБ-10)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сключен: злокачественный пузырный занос (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9.2)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634920" y="2155680"/>
            <a:ext cx="7658280" cy="383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5959"/>
                </a:solidFill>
                <a:latin typeface="Corbel"/>
              </a:rPr>
              <a:t>Данный код используется в случае поступления в медицинскую организацию пациенток с продолжающейся беременностью после проведения попытки аборта в любой медицинской организации.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8" name="Объект 2"/>
          <p:cNvSpPr/>
          <p:nvPr/>
        </p:nvSpPr>
        <p:spPr>
          <a:xfrm>
            <a:off x="4064040" y="1020600"/>
            <a:ext cx="72295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Неудачная попытка аборта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07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105;2105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714840" y="2607840"/>
            <a:ext cx="7578720" cy="33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5959"/>
                </a:solidFill>
                <a:latin typeface="Corbel"/>
              </a:rPr>
              <a:t>У любой пациентки в рамках одной госпитализации может иметь место несколько осложнений беременности с абортивным исходом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1" name="Объект 2"/>
          <p:cNvSpPr/>
          <p:nvPr/>
        </p:nvSpPr>
        <p:spPr>
          <a:xfrm>
            <a:off x="4064040" y="1020600"/>
            <a:ext cx="76201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сложнения, вызванные абортом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08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а 3000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758760" y="2760840"/>
            <a:ext cx="7613640" cy="39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графе 1 указывается число женщин, умерших от прерывания беременности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02- О06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 них в графе 2 – в сроки до 12 недель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 них в графе 3 – в сроки 12-22 недели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исло в графе 1 должно равняться сумме граф 2 и 3 этой таблицы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4" name="Объект 2"/>
          <p:cNvSpPr/>
          <p:nvPr/>
        </p:nvSpPr>
        <p:spPr>
          <a:xfrm>
            <a:off x="4064040" y="496800"/>
            <a:ext cx="746136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Число женщин, умерших от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02- О06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ЭКОНОМИЧЕСКОГО РАЗВИТИЯ РОССИЙСКОЙ ФЕДЕРАЦИИ 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СЛУЖБА ГОСУДАРСТВЕННОЙ СТАТИСТИКИ 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2 декабря 2017 г. № 861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СТАТИСТИЧЕСКОГО ИНСТРУМЕНТАРИЯ ДЛЯ ОРГАНИЗАЦИИ МИНИСТЕРСТВОМ ЗДРАВООХРАНЕНИЯ РОССИЙСКОЙ ФЕДЕРАЦИИ ФЕДЕРАЛЬНОГО СТАТИСТИЧЕСКОГО НАБЛЮДЕНИЯ В СФЕРЕ ЗДРАВООХРАНЕНИЯ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000с4г4 = ф13т1100г1+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1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37" name="Объект 2" descr=""/>
          <p:cNvPicPr/>
          <p:nvPr/>
        </p:nvPicPr>
        <p:blipFill>
          <a:blip r:embed="rId1"/>
          <a:stretch/>
        </p:blipFill>
        <p:spPr>
          <a:xfrm>
            <a:off x="3565440" y="90180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38" name="Овал 10"/>
          <p:cNvSpPr/>
          <p:nvPr/>
        </p:nvSpPr>
        <p:spPr>
          <a:xfrm>
            <a:off x="6861240" y="2438280"/>
            <a:ext cx="755640" cy="27144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Овал 13"/>
          <p:cNvSpPr/>
          <p:nvPr/>
        </p:nvSpPr>
        <p:spPr>
          <a:xfrm>
            <a:off x="6491160" y="3882960"/>
            <a:ext cx="93672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Овал 15"/>
          <p:cNvSpPr/>
          <p:nvPr/>
        </p:nvSpPr>
        <p:spPr>
          <a:xfrm flipH="1">
            <a:off x="7891560" y="426708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3908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000с4г5 =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3+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43" name="Объект 2" descr=""/>
          <p:cNvPicPr/>
          <p:nvPr/>
        </p:nvPicPr>
        <p:blipFill>
          <a:blip r:embed="rId1"/>
          <a:stretch/>
        </p:blipFill>
        <p:spPr>
          <a:xfrm>
            <a:off x="3643200" y="91296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44" name="Овал 10"/>
          <p:cNvSpPr/>
          <p:nvPr/>
        </p:nvSpPr>
        <p:spPr>
          <a:xfrm>
            <a:off x="7427880" y="2449440"/>
            <a:ext cx="755640" cy="27000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Овал 13"/>
          <p:cNvSpPr/>
          <p:nvPr/>
        </p:nvSpPr>
        <p:spPr>
          <a:xfrm>
            <a:off x="7097760" y="4052880"/>
            <a:ext cx="93672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Овал 15"/>
          <p:cNvSpPr/>
          <p:nvPr/>
        </p:nvSpPr>
        <p:spPr>
          <a:xfrm flipH="1">
            <a:off x="8876520" y="4437000"/>
            <a:ext cx="825480" cy="38268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3908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000с4г6 =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49" name="Объект 2" descr=""/>
          <p:cNvPicPr/>
          <p:nvPr/>
        </p:nvPicPr>
        <p:blipFill>
          <a:blip r:embed="rId1"/>
          <a:stretch/>
        </p:blipFill>
        <p:spPr>
          <a:xfrm>
            <a:off x="3643200" y="91296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50" name="Овал 10"/>
          <p:cNvSpPr/>
          <p:nvPr/>
        </p:nvSpPr>
        <p:spPr>
          <a:xfrm>
            <a:off x="8034480" y="2401920"/>
            <a:ext cx="755640" cy="27144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Овал 13"/>
          <p:cNvSpPr/>
          <p:nvPr/>
        </p:nvSpPr>
        <p:spPr>
          <a:xfrm>
            <a:off x="8418600" y="4030560"/>
            <a:ext cx="938160" cy="38268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Овал 15"/>
          <p:cNvSpPr/>
          <p:nvPr/>
        </p:nvSpPr>
        <p:spPr>
          <a:xfrm flipH="1">
            <a:off x="10119600" y="4413240"/>
            <a:ext cx="82404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0783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прерывании беременности в возрастной группе до 14 лет (строка 1 графа 5 таблица 1000) необходимо указать число первобеременных (графа 1) – число в этой графе должно быть меньше, чем в строке 1 графе 5 и строке 1 графе 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55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56" name="Овал 10"/>
          <p:cNvSpPr/>
          <p:nvPr/>
        </p:nvSpPr>
        <p:spPr>
          <a:xfrm>
            <a:off x="8805960" y="4906800"/>
            <a:ext cx="7873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Овал 13"/>
          <p:cNvSpPr/>
          <p:nvPr/>
        </p:nvSpPr>
        <p:spPr>
          <a:xfrm>
            <a:off x="7407360" y="1792440"/>
            <a:ext cx="8110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Овал 15"/>
          <p:cNvSpPr/>
          <p:nvPr/>
        </p:nvSpPr>
        <p:spPr>
          <a:xfrm flipH="1">
            <a:off x="990612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31449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сло ВИЧ инфицированных среди возрастной группы до 14 лет  (графа 2) – число в этой графе должно быть меньше, чем в строке 1 графе 5 и строке 1 графе 1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61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62" name="Овал 10"/>
          <p:cNvSpPr/>
          <p:nvPr/>
        </p:nvSpPr>
        <p:spPr>
          <a:xfrm>
            <a:off x="10334520" y="4917960"/>
            <a:ext cx="7891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Овал 13"/>
          <p:cNvSpPr/>
          <p:nvPr/>
        </p:nvSpPr>
        <p:spPr>
          <a:xfrm>
            <a:off x="7407360" y="1792440"/>
            <a:ext cx="8110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Овал 15"/>
          <p:cNvSpPr/>
          <p:nvPr/>
        </p:nvSpPr>
        <p:spPr>
          <a:xfrm flipH="1">
            <a:off x="1042524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0783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прерывании беременности в возрастной группе 15-17 лет (строка 1 графа 6 таблица 1000) необходимо указать число первобеременных (графа 1) – число в этой графе должно быть меньше, чем в строке 1 графе 6 и строке 1 графе 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67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68" name="Овал 10"/>
          <p:cNvSpPr/>
          <p:nvPr/>
        </p:nvSpPr>
        <p:spPr>
          <a:xfrm>
            <a:off x="8805960" y="5291280"/>
            <a:ext cx="7873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Овал 13"/>
          <p:cNvSpPr/>
          <p:nvPr/>
        </p:nvSpPr>
        <p:spPr>
          <a:xfrm>
            <a:off x="7994520" y="1792440"/>
            <a:ext cx="81144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Овал 15"/>
          <p:cNvSpPr/>
          <p:nvPr/>
        </p:nvSpPr>
        <p:spPr>
          <a:xfrm flipH="1">
            <a:off x="990612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2338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сло ВИЧ инфицированных среди возрастной группы 15-17лет  (графа 2) – число в этой графе должно быть меньше, чем в строке 1 графе 6 и строке 1 графе 1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73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74" name="Овал 10"/>
          <p:cNvSpPr/>
          <p:nvPr/>
        </p:nvSpPr>
        <p:spPr>
          <a:xfrm>
            <a:off x="10425240" y="5261040"/>
            <a:ext cx="787320" cy="29376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Овал 13"/>
          <p:cNvSpPr/>
          <p:nvPr/>
        </p:nvSpPr>
        <p:spPr>
          <a:xfrm>
            <a:off x="8026560" y="1792440"/>
            <a:ext cx="688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Овал 15"/>
          <p:cNvSpPr/>
          <p:nvPr/>
        </p:nvSpPr>
        <p:spPr>
          <a:xfrm flipH="1">
            <a:off x="10424520" y="1792440"/>
            <a:ext cx="6490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2360" y="868320"/>
            <a:ext cx="316224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Число в т2100г1 должно быть не больше числа в т2000с4г4, число в т2100г2 тоже должно быть не больше числа в т2000с4г4 и меньше числа в т2100г1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3 т2100 – аборты до 14 лет вкл. только по медицинским показаниям!!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4 таблицы 2100 не более числа из т2000с4г6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2101г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лее числа 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2000с4г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9" name="Овал 10"/>
          <p:cNvSpPr/>
          <p:nvPr/>
        </p:nvSpPr>
        <p:spPr>
          <a:xfrm>
            <a:off x="10425240" y="5291280"/>
            <a:ext cx="7873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Овал 13"/>
          <p:cNvSpPr/>
          <p:nvPr/>
        </p:nvSpPr>
        <p:spPr>
          <a:xfrm>
            <a:off x="8026560" y="1792440"/>
            <a:ext cx="688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Овал 15"/>
          <p:cNvSpPr/>
          <p:nvPr/>
        </p:nvSpPr>
        <p:spPr>
          <a:xfrm flipH="1">
            <a:off x="1042524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2" name="Объект 3" descr=""/>
          <p:cNvPicPr/>
          <p:nvPr/>
        </p:nvPicPr>
        <p:blipFill>
          <a:blip r:embed="rId1"/>
          <a:stretch/>
        </p:blipFill>
        <p:spPr>
          <a:xfrm>
            <a:off x="3643200" y="849240"/>
            <a:ext cx="8548920" cy="5121360"/>
          </a:xfrm>
          <a:prstGeom prst="rect">
            <a:avLst/>
          </a:prstGeom>
          <a:ln w="0">
            <a:noFill/>
          </a:ln>
        </p:spPr>
      </p:pic>
      <p:sp>
        <p:nvSpPr>
          <p:cNvPr id="283" name="Овал 9"/>
          <p:cNvSpPr/>
          <p:nvPr/>
        </p:nvSpPr>
        <p:spPr>
          <a:xfrm>
            <a:off x="8207280" y="4336920"/>
            <a:ext cx="820800" cy="29844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Овал 11"/>
          <p:cNvSpPr/>
          <p:nvPr/>
        </p:nvSpPr>
        <p:spPr>
          <a:xfrm flipH="1">
            <a:off x="7093800" y="2448000"/>
            <a:ext cx="82404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Овал 12"/>
          <p:cNvSpPr/>
          <p:nvPr/>
        </p:nvSpPr>
        <p:spPr>
          <a:xfrm>
            <a:off x="10733040" y="4437000"/>
            <a:ext cx="822240" cy="298440"/>
          </a:xfrm>
          <a:prstGeom prst="ellipse">
            <a:avLst/>
          </a:prstGeom>
          <a:solidFill>
            <a:srgbClr val="2791a6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Овал 14"/>
          <p:cNvSpPr/>
          <p:nvPr/>
        </p:nvSpPr>
        <p:spPr>
          <a:xfrm flipH="1">
            <a:off x="7201800" y="2448000"/>
            <a:ext cx="824040" cy="384120"/>
          </a:xfrm>
          <a:prstGeom prst="ellipse">
            <a:avLst/>
          </a:prstGeom>
          <a:noFill/>
          <a:ln w="28440">
            <a:solidFill>
              <a:srgbClr val="2791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Овал 18"/>
          <p:cNvSpPr/>
          <p:nvPr/>
        </p:nvSpPr>
        <p:spPr>
          <a:xfrm>
            <a:off x="9469440" y="4586400"/>
            <a:ext cx="822240" cy="298440"/>
          </a:xfrm>
          <a:prstGeom prst="ellipse">
            <a:avLst/>
          </a:prstGeom>
          <a:solidFill>
            <a:srgbClr val="7030a0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Овал 19"/>
          <p:cNvSpPr/>
          <p:nvPr/>
        </p:nvSpPr>
        <p:spPr>
          <a:xfrm flipH="1">
            <a:off x="8133480" y="2457360"/>
            <a:ext cx="908280" cy="317520"/>
          </a:xfrm>
          <a:prstGeom prst="ellips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Овал 20"/>
          <p:cNvSpPr/>
          <p:nvPr/>
        </p:nvSpPr>
        <p:spPr>
          <a:xfrm>
            <a:off x="8304120" y="4992840"/>
            <a:ext cx="822240" cy="298440"/>
          </a:xfrm>
          <a:prstGeom prst="ellipse">
            <a:avLst/>
          </a:prstGeom>
          <a:solidFill>
            <a:srgbClr val="92d050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Овал 21"/>
          <p:cNvSpPr/>
          <p:nvPr/>
        </p:nvSpPr>
        <p:spPr>
          <a:xfrm flipH="1">
            <a:off x="7012080" y="2481120"/>
            <a:ext cx="907920" cy="317520"/>
          </a:xfrm>
          <a:prstGeom prst="ellipse">
            <a:avLst/>
          </a:prstGeom>
          <a:noFill/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1000,1,04+13,2000,1,04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=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4000,146,0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Межформенный контроль 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1000,7,04+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2000,7,04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=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4000,141,0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Межформенный контроль 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едует проводить с отчетной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формой № 14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стационарных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условиях»:  таблиц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4 000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трок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14.1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граф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по поводу внематочной беременности (раздел  3. «Хирургическая работа организации»)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облема абортов тесно связана с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контрацепцией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 Поэтому следует обратить внимание на операции по поводу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стерилизации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женщин ( форма № 14 таблица 4 000 Раздел 3.«Хирургическая работа организации» строка 13.4  графа 3)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 -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заполняется полностью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 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40bad2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Объект 4" descr=""/>
          <p:cNvPicPr/>
          <p:nvPr/>
        </p:nvPicPr>
        <p:blipFill>
          <a:blip r:embed="rId1"/>
          <a:stretch/>
        </p:blipFill>
        <p:spPr>
          <a:xfrm>
            <a:off x="3614760" y="1523880"/>
            <a:ext cx="7991280" cy="46515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33609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Первичная учетная медицинская документация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Content Placeholder 3" descr=""/>
          <p:cNvPicPr/>
          <p:nvPr/>
        </p:nvPicPr>
        <p:blipFill>
          <a:blip r:embed="rId1"/>
          <a:stretch/>
        </p:blipFill>
        <p:spPr>
          <a:xfrm>
            <a:off x="3181320" y="609480"/>
            <a:ext cx="8236080" cy="57484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Форма № 13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«Сведения о беременности с абортивным исходом»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Footer Placeholder 18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е аборты у девочек в возрасте до 14 лет вкл. считаются как аборты по 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медицинским показаниям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в силу физиологической незрелости организма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81812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2000" spc="-1" strike="noStrike">
                <a:solidFill>
                  <a:srgbClr val="c00000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На каждый случай аборта у девочек до 14 лет вкл. представляется пояснительная записка: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 отчету прилагается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пояснительня записк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 обязательным распределением числа абортов у детей до 14 лет (включительно) по возрастам: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81812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Фамилия, имя, отчество пациентки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Дата рождения, возраст на момент поступления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Номер первичной медицинской документации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Медицинская организация, направившая на госпитализацию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Диагноз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Код по МКБ-10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а 1000: беременность с абортивным исходом в срок до 12 недель.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98" name="Объект 2" descr=""/>
          <p:cNvPicPr/>
          <p:nvPr/>
        </p:nvPicPr>
        <p:blipFill>
          <a:blip r:embed="rId1"/>
          <a:stretch/>
        </p:blipFill>
        <p:spPr>
          <a:xfrm>
            <a:off x="3603600" y="868320"/>
            <a:ext cx="7726320" cy="5145120"/>
          </a:xfrm>
          <a:prstGeom prst="rect">
            <a:avLst/>
          </a:prstGeom>
          <a:ln w="0">
            <a:noFill/>
          </a:ln>
        </p:spPr>
      </p:pic>
      <p:sp>
        <p:nvSpPr>
          <p:cNvPr id="199" name="Овал 10"/>
          <p:cNvSpPr/>
          <p:nvPr/>
        </p:nvSpPr>
        <p:spPr>
          <a:xfrm>
            <a:off x="6886440" y="1839960"/>
            <a:ext cx="755640" cy="29376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Овал 13"/>
          <p:cNvSpPr/>
          <p:nvPr/>
        </p:nvSpPr>
        <p:spPr>
          <a:xfrm>
            <a:off x="7621560" y="1839960"/>
            <a:ext cx="2505240" cy="29376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Овал 15"/>
          <p:cNvSpPr/>
          <p:nvPr/>
        </p:nvSpPr>
        <p:spPr>
          <a:xfrm>
            <a:off x="6988320" y="2133720"/>
            <a:ext cx="617400" cy="97128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а 1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1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668760" y="867960"/>
            <a:ext cx="7710480" cy="13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Беременность с абортивным исходом в срок до 12 недель (О00-О06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668760" y="2776320"/>
            <a:ext cx="7624800" cy="32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Исключена продолжающаяся беременность при многоплодном зачатии после аборта одного или более чем одного плода (О31.1)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Саша</cp:lastModifiedBy>
  <cp:lastPrinted>2018-12-10T14:36:03Z</cp:lastPrinted>
  <dcterms:modified xsi:type="dcterms:W3CDTF">2018-12-11T23:38:29Z</dcterms:modified>
  <cp:revision>61</cp:revision>
  <dc:subject/>
  <dc:title>Презентация PowerPoint</dc:title>
</cp:coreProperties>
</file>