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C7194-7097-4460-82B6-67A4A75A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EE2C8-64D6-47F0-A033-CDEA0BAB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94E50-7BEF-4C20-9D39-C5D3CFF2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962C6-D474-4129-B358-89ADEB87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2619-7648-4DC2-8935-922A4D3C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9525-4194-4B18-8FFD-5D425CA2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F789-DE05-45D3-A7A1-9C9F5FD2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6D06-2A6C-4340-B19D-F844A7B8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991B-F231-471A-A0C1-246A37DA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6B29-871A-4F4B-A0C5-E08921D2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CFBA-A7FC-45EC-8B63-367DAE64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12858-9CBB-4933-AC48-DBAAC354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D022-8967-4C43-AA8E-E06B76DF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3E56-BBCF-4C43-A46C-02CFEDDC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2FA5-5FC6-4023-911B-A93E1E10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6336-F98D-48C6-9538-24E45A90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28FF-9E5F-47A1-9ECE-34FEB8C6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088E6-4AB7-4237-BC3F-74741405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B8C4D-C74D-4BF2-AE52-B62FB6F8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0DDFE-9BE0-4CBA-A6C3-C4E7E77E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3D1D1-96A0-4F3A-9FAD-64C621E0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35A6C-7F4E-4979-B150-BEF34BF9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0FEC4-59FB-47E9-84F7-79E92B08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C5B11-52DB-4108-BD39-1DB90E3F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5D03C-B955-4995-84CA-89D9C89A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34FDB-CF68-4E13-AB9E-5F354150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F4838-A730-44F7-89A5-25710FD3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5FF86-2537-4BED-9123-C13C4720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1987E-323A-4CF9-BCAA-FD3D3EF4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B3621-ED9E-48E9-8B2F-99C0DBC9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7B6F6-0456-40D1-B63F-516B3637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95B94-2180-40A5-A873-4BF08F9C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269F3-9342-457F-8E55-C16C0728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42A38-486C-4A94-AC8D-F88FD3D0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CF0DD-B362-4C67-A920-82F567F9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3EF31-0093-4CDB-98A9-EB0BB306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6DDE-5A91-4C27-A631-0666C0A83E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ftr" idx="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D138-CE9E-4F1B-B8D5-6BCED24AAC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E3D9-D6A6-456C-84D5-C82120FBB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424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РАЗДЕ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«ПАТОЛОГИЧЕСКАЯ АНАТОМ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ФОРМЫ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14 и 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(5502)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- ЗАПОЛНЯТЬ!!!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ы по ОКЕИ:   единица – 6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биопсийного и операционного материала 1 __________ , из ни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2 __________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цитологического материала 3 ___________ , 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4 __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осмертная патологоанатомическая диагнос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(патологоанатомические вскрытия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ТАБЛИЦА (5503)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лняется исключительно по результатам </a:t>
            </a: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патологоанатомически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скрытий умерших в стационаре и амбулаторно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СОМАТИЧЕСКОЙ ПАТОЛО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заболеваний).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79280" y="115920"/>
          <a:ext cx="8785440" cy="5802120"/>
        </p:xfrm>
        <a:graphic>
          <a:graphicData uri="http://schemas.openxmlformats.org/drawingml/2006/table">
            <a:tbl>
              <a:tblPr/>
              <a:tblGrid>
                <a:gridCol w="4214880"/>
                <a:gridCol w="517680"/>
                <a:gridCol w="520560"/>
                <a:gridCol w="492120"/>
                <a:gridCol w="492120"/>
                <a:gridCol w="490680"/>
                <a:gridCol w="493560"/>
                <a:gridCol w="490680"/>
                <a:gridCol w="1073160"/>
              </a:tblGrid>
              <a:tr h="547920"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атегориям сложности (из графы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из гр.3 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не медицинских организаций, оказывающих медицинскую помощь 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  муж.: 18–59 лет включ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–27 неде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2"/>
          <p:cNvSpPr/>
          <p:nvPr/>
        </p:nvSpPr>
        <p:spPr>
          <a:xfrm>
            <a:off x="0" y="5996880"/>
            <a:ext cx="88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(5505)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бслуживаемых медицинских организаций всего 2 _____________ , из них: медицинских организаций,  оказывающих медицинскую помощь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3 _____________ .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бъектов гистологического исследования по секционному материалу  4 __________ .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"/>
          <p:cNvSpPr/>
          <p:nvPr/>
        </p:nvSpPr>
        <p:spPr>
          <a:xfrm>
            <a:off x="4500720" y="1916280"/>
            <a:ext cx="287280" cy="217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"/>
          <p:cNvSpPr/>
          <p:nvPr/>
        </p:nvSpPr>
        <p:spPr>
          <a:xfrm>
            <a:off x="4500720" y="2205000"/>
            <a:ext cx="287280" cy="2872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2565360"/>
            <a:ext cx="287280" cy="2872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"/>
          <p:cNvSpPr/>
          <p:nvPr/>
        </p:nvSpPr>
        <p:spPr>
          <a:xfrm>
            <a:off x="4500720" y="5300640"/>
            <a:ext cx="287280" cy="2890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бы заполнить таблицу 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503 и ф. 14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ам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Составить списки умерших с град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для Вашего удобства в работе – лучше в форм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блицы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возрастной групп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рудоспособный, не трудоспособный,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классам МК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наличию/отсутствию патологоанатомического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крытия с указанием сличения диагнозов и      категории сложности каждой аутоп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составленным спискам -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ЗАБЛАГОПРЕМЕННО сверить данные по вскрытиям с         ПАТОЛОГОАНАТОМАМИ 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Например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№ 1. Трудоспособный возра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484280"/>
          <a:ext cx="8229600" cy="517536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 Павел Петр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А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сторонняя пневмония не уточненной этиолог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асхожде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тегория сложнос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ков Иван Семенови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ходжкинская лимфом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аева Анн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иль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кры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ифр МКБ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пая травма живо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Например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блица № 2. Не трудоспособный возра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510372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ин Павел Иван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сторонняя пневмония не уточненной этиолог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овпа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тегория сло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а Ирина Семенов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ный ишемический инсуль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злов Петр Петр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кры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ифр МКБ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жественные ножевые ра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атолого-анатомические вскрытия подразделяются на следующие категории сложности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первой категории слож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(макроскопическое исследование) без проведения гистологического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второй категории слож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лода, мертворожденного или новорожденного, а также патолого-анатомическое вскрытие при установленном клиническом диагнозе, включая осложнения основного заболевания, при отсутствии трудностей в трактовке механизмов и причины смерти (в том числе при ишемической болезни сердца, ревматических поражениях клапанов сердца вне обострения, инфаркте головного мозга, новообразованиях, подтвержденных гистологически, циррозе печени, язве желудка и двенадцатиперстной кишки, аппендиците, холецистите, желчнокаменной болезни, аневризме аорт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атолого-анатомические вскрытия подразделяются на следующие категории сложности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третьей категории слож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ри установленном клиническом диагнозе, включая осложнения основного заболевания, а также в случаях смерти после оперативных вмешательств (за исключением случаев, предусмотренных подпунктами 4 и 5 настоящего пункта), когда возникают трудности в трактовке сущности патологического процесса, механизмов и причины смерти, что требует применения дополнительных гистологических и гистохимических окрасок, бактериоскопического, бактериологического, биохимического и других исследований (в том числе при кардиомиопатиях, перикардитах, миокардитах, эндокардитах, цереброваскулярных заболеваниях, сосудистой недостаточности кишечника, кишечной непроходимости, вирусных гепатитах, пиелонефритах, мочекаменной болезни, обструктивных болезнях легкого, сосудистой недостаточности конечностей, психических и нервных болезнях, алкоголизме, панкреатитах, амилоидоз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четвертой категории слож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ри комбинированном основном заболевании или полипатии, при наличии дефектов диагностики и лечения, что вызвало трудности в трактовке характера патологического процесса, механизмов и причины смерти (в том числе при интраоперационной или ранней послеоперационной смерти, инфекционных заболеваниях (кроме ВИЧ-инфекции, особо опасных инфекций), заболеваниях беременных, рожениц и родильниц, при гнойно-воспалительных осложнениях, не диагностированных при жизни, сепсисе, болезнях крови и кроветворных органов, ревматических болезнях, заболеваниях спинного мозга, болезнях кожи и костно-мышечной системы, профессиональных заболеваниях, в том числе пневмокониозах, интерстициальных болезнях легких, болезнях эндокринной системы, болезнях накоплени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атолого-анатомические вскрытия подразделяются на следующие категории сложности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 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пятой категории слож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ри неустановленном клиническом диагнозе основного заболевания, когда имеются трудности в трактовке характера патологического процесса и причины смерти или необходимо применение дополнительных иммуногистохимических, молекулярно-биологических, электронно-микроскопических методов исследования (в том числе при новообразованиях неустановленного гистогенеза, особо опасных инфекционных болезнях, ВИЧ-инфек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КОНТАКТЫ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(в течение рабочего дня)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ующая отделением общей и инфекционной патологии (г. Чита) – ГОНЧАРОВА Марина Александровн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1-43-02; 8-914-490-90-9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ующая Краснокаменским ПаО – Плакущая Надежда Владимировн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914-145-23-7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ующая Первомайским ПаО – Старнавская Наталья Николае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914-512-42-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 классам МКБ-Х необходимо заполнить три табличных формы (2000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зросл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8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е трудоспособн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женщины 55 дет, мужчины 60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Де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 0 до 17 лет включ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8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мерло ВСЕ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-10 показываем всю летальность, наступившую в стационаре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включая классы «внешние причины смерти» (СМЭ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9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проведено патологоанатомических вскрыти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 показываем умерших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двергнутых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ПАТОЛОГОАНАТОМИЧЕСКОМУ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скрытию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!!!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е включая умерших от «внешних причин смерти» (СМЭ!!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10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становлено расхождений диагноз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по классам МКБ - количество расхождений (без учёта категории расхождения диагноза)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из числа умерших, подвергнутых патологоанатомическому вскрыт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79280" y="620640"/>
          <a:ext cx="8785440" cy="6051600"/>
        </p:xfrm>
        <a:graphic>
          <a:graphicData uri="http://schemas.openxmlformats.org/drawingml/2006/table">
            <a:tbl>
              <a:tblPr/>
              <a:tblGrid>
                <a:gridCol w="3246480"/>
                <a:gridCol w="924120"/>
                <a:gridCol w="1019160"/>
                <a:gridCol w="988920"/>
                <a:gridCol w="1373040"/>
                <a:gridCol w="1233720"/>
              </a:tblGrid>
              <a:tr h="142920"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зрослые 18 лет и стар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4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Rectangle 1"/>
          <p:cNvSpPr/>
          <p:nvPr/>
        </p:nvSpPr>
        <p:spPr>
          <a:xfrm>
            <a:off x="179280" y="112680"/>
            <a:ext cx="8572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ВОЗРАСТ – СТАЦИОНАРНАЯ ЛЕТАЛЬНОСТЬ   (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00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684360" y="201240"/>
            <a:ext cx="77864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Е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ТРУДОСПОСОБНЫЙ ВОЗР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79280" y="836640"/>
          <a:ext cx="8713800" cy="5842080"/>
        </p:xfrm>
        <a:graphic>
          <a:graphicData uri="http://schemas.openxmlformats.org/drawingml/2006/table">
            <a:tbl>
              <a:tblPr/>
              <a:tblGrid>
                <a:gridCol w="3221280"/>
                <a:gridCol w="914400"/>
                <a:gridCol w="1012680"/>
                <a:gridCol w="981000"/>
                <a:gridCol w="1362240"/>
                <a:gridCol w="1222200"/>
              </a:tblGrid>
              <a:tr h="404640"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 старше  трудоспособного 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(с 55 лет у женщин и с 60 лет у мужч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2480" rIns="4248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00-Т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олез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836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24000" y="928800"/>
          <a:ext cx="8569080" cy="5716440"/>
        </p:xfrm>
        <a:graphic>
          <a:graphicData uri="http://schemas.openxmlformats.org/drawingml/2006/table">
            <a:tbl>
              <a:tblPr/>
              <a:tblGrid>
                <a:gridCol w="3020760"/>
                <a:gridCol w="733680"/>
                <a:gridCol w="863280"/>
                <a:gridCol w="986040"/>
                <a:gridCol w="988920"/>
                <a:gridCol w="988920"/>
                <a:gridCol w="987480"/>
              </a:tblGrid>
              <a:tr h="217440"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Дети (в возрасте 0-17 лет включительн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6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идной, кроветворной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ственных 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бласт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714240" y="153360"/>
            <a:ext cx="778680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357120" y="1195560"/>
          <a:ext cx="8358120" cy="5600520"/>
        </p:xfrm>
        <a:graphic>
          <a:graphicData uri="http://schemas.openxmlformats.org/drawingml/2006/table">
            <a:tbl>
              <a:tblPr/>
              <a:tblGrid>
                <a:gridCol w="5840640"/>
                <a:gridCol w="502920"/>
                <a:gridCol w="1008360"/>
                <a:gridCol w="1006200"/>
              </a:tblGrid>
              <a:tr h="91296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ны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анатом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исследованных после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истохимические диагност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истохимические диагностические исслед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иммуногистохимические диагностические исследова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иммуногистохимические диагност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иммуно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"/>
          <p:cNvSpPr/>
          <p:nvPr/>
        </p:nvSpPr>
        <p:spPr>
          <a:xfrm>
            <a:off x="428760" y="43560"/>
            <a:ext cx="87865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Форма 3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. Деятельность патологоанатомического бюро (отделения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жизненные патологоанатомические диагностические исследования операционного и биопсийного материала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(5500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  <a:ea typeface="Arial"/>
              </a:rPr>
              <a:t> – НЕ ЗАПОЛНЯТЬ!!!)</a:t>
            </a:r>
            <a:r>
              <a:rPr b="0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1125360"/>
            <a:ext cx="8713800" cy="5543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79280" y="907920"/>
            <a:ext cx="8640720" cy="5761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14200" y="714240"/>
          <a:ext cx="8715600" cy="6085080"/>
        </p:xfrm>
        <a:graphic>
          <a:graphicData uri="http://schemas.openxmlformats.org/drawingml/2006/table">
            <a:tbl>
              <a:tblPr/>
              <a:tblGrid>
                <a:gridCol w="6089760"/>
                <a:gridCol w="525600"/>
                <a:gridCol w="1050840"/>
                <a:gridCol w="1049400"/>
              </a:tblGrid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енет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енетические диагнос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ене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молекулярно-биолог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другие прижизненные дополнительные специальны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цит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250920" y="404640"/>
            <a:ext cx="8642160" cy="6120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68000" y="333360"/>
            <a:ext cx="8280360" cy="62643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"/>
          <p:cNvSpPr/>
          <p:nvPr/>
        </p:nvSpPr>
        <p:spPr>
          <a:xfrm>
            <a:off x="3131640" y="16020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Не заполня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Таблица 3" descr=""/>
          <p:cNvPicPr/>
          <p:nvPr/>
        </p:nvPicPr>
        <p:blipFill>
          <a:blip r:embed="rId1"/>
          <a:stretch/>
        </p:blipFill>
        <p:spPr>
          <a:xfrm>
            <a:off x="212760" y="1285920"/>
            <a:ext cx="8718480" cy="38829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"/>
          <p:cNvSpPr/>
          <p:nvPr/>
        </p:nvSpPr>
        <p:spPr>
          <a:xfrm>
            <a:off x="0" y="-468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Структура прижизненных патологоанатомических и цитологических диагностических исследований по категориям сложност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Arial"/>
              </a:rPr>
              <a:t>         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(5501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 – НЕ ЗАПОЛНЯТЬ!!!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142920" y="5667480"/>
            <a:ext cx="9001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1197000"/>
            <a:ext cx="77770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4360" y="1197000"/>
            <a:ext cx="79912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User</cp:lastModifiedBy>
  <dcterms:modified xsi:type="dcterms:W3CDTF">2015-12-14T20:08:13Z</dcterms:modified>
  <cp:revision>50</cp:revision>
  <dc:subject/>
  <dc:title>Слайд 1</dc:title>
</cp:coreProperties>
</file>