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F35C-BD44-4502-AC61-41020CE5CD8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E392-B567-4BBD-BADF-B72C75F6A5D3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B11-3AE9-40E2-8FFC-BDEB469B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5988-D49E-4E4F-9980-AAB643B4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780C-DEEF-4DBB-B1B4-C0681D1A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FED2-F5C9-4CD3-A1CC-8CA05113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9BB6-5E20-4928-9B76-6A35A995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34C3-4A38-49D4-BFE0-D2F6BED2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EF30-52A6-45C9-9B92-BD4F96E2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21DE-9EF0-469B-BCE0-92BD9959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B4FF-04D6-4BD3-B506-B3D7480B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1A24-7E84-42ED-A352-CA7CA14E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55AC-139F-402A-8129-034A50ED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5EEF-EC26-439D-83B7-A6FF72ED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244C-89C4-4EEC-A16E-D1805D700D0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ndchita.ru/" TargetMode="External"/><Relationship Id="rId3" Type="http://schemas.openxmlformats.org/officeDocument/2006/relationships/hyperlink" Target="http://www.kndchita.ru/" TargetMode="External"/><Relationship Id="rId4" Type="http://schemas.openxmlformats.org/officeDocument/2006/relationships/hyperlink" Target="http://www.kndchita.ru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821120" y="5122800"/>
            <a:ext cx="43228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А. Бу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ститель главного вра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ОМР ГАУЗ «Забайкальский краевой наркологический диспанс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64960" y="1720800"/>
            <a:ext cx="852012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12800" y="1915560"/>
            <a:ext cx="78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5" descr="i?id=276645700-65-72&amp;n=21"/>
          <p:cNvPicPr/>
          <p:nvPr/>
        </p:nvPicPr>
        <p:blipFill>
          <a:blip r:embed="rId2"/>
          <a:stretch/>
        </p:blipFill>
        <p:spPr>
          <a:xfrm>
            <a:off x="441360" y="264960"/>
            <a:ext cx="1119240" cy="10335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264960" y="1219320"/>
            <a:ext cx="852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тче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о формам федерального статистического наблюд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№ </a:t>
            </a: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7 и №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817560"/>
            <a:ext cx="8350200" cy="62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сновные принципы формирования т. 2100 ф. №37 с 2016 года изменены в соответствии с новым Порядком диспансерного наблюд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чиная с 2016 отчетного года в таблице 2100 ф. № 37 следует показывать только тех пациентов, которые состоят под диспансерным наблюдением у врача психиатра-наркол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т. 21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ся число наркологических пациентов, которые были взяты под ДН в течение отчетного 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циенты с впервые в жизни установленным диагнозом наркологического расстрой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веденные из других наркологических организ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овь обратившиеся с обострением  наркологического заболевания или иными причин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F9BA-85D3-4FEE-8DF4-F7356687B9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457200" y="0"/>
            <a:ext cx="8229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 т. 2100 ф. №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851040"/>
            <a:ext cx="8350200" cy="60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6 т. 21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пациентах, снятых с  ДН по причин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твержденная стойкая ремисс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возможность обеспечить осмотр пациента, несмотря на все принимаемые меры, в течение 1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мерть паци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уждение пациента к лишению свободы на срок свыше 1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менение постоянного места жительства с выездом за пределы обслуживаемой террито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исьменного отказа пациента от Д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4ED4-4B46-43B8-A40B-3BD0F0ABAC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 т. 2100 ф. №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851040"/>
            <a:ext cx="8350200" cy="60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очные алгоритмы проверки остаются без изменения по сравнению с 2015 годом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горитм межгодовой проверки по стр. 1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.8 стр.11 2016 г. + гр.4 стр.11 2017 г. – гр.6 стр.11 2017 г. = гр.8 стр.11 2017 г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C3A6-649A-4854-888D-44A57C2A29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 т. 2100 ф. №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938160"/>
            <a:ext cx="83502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 с пациентами, которые на конец 2015 г. находились на проф. учете с диагнозом «пагубное употребление», не были осмотрены (сняты) в течение 2016 г. и были включены в гр.8 т. 2100 2016 г.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ы следующие вариа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не явился на осмотр в 2017 г., снимается с наблюдения по одной из причин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гр.6 т. 2100 (снятые) не показыва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смотрен в 2017 г. и дал согласие на ДН. Взят под ДН, включается в гр. 4 т.2100 (впервые в данном году) и в гр.8 т. 2100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 включается в гр. 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Пациент осмотрен в 2017 г., но не дал согласие на ДН.        Пациент снимается с учет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гр. 6 (снятые) не показ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43C3-EF6D-425C-A054-DD433E53A7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ижний колонтитул 6"/>
          <p:cNvSpPr/>
          <p:nvPr/>
        </p:nvSpPr>
        <p:spPr>
          <a:xfrm>
            <a:off x="31719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 т. 2100 ф. №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938160"/>
            <a:ext cx="83502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а межформенная проверка т.2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№ 11 и т.2100 ф.№ 3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ациентов с впервые в жизни установленным диагнозом наркологического расстройства в т. 2000 ф. №11 по соответствуюшим диагностическим группам больше (на малых цифрах может быть равенство) числа пациентов, взятых под ДН (гр. 5 т. 21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№ 37)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E942-9C5E-4471-A535-893979D626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ижний колонтитул 6"/>
          <p:cNvSpPr/>
          <p:nvPr/>
        </p:nvSpPr>
        <p:spPr>
          <a:xfrm>
            <a:off x="31719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менение ранее действующих алгоритмов проверок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47440"/>
            <a:ext cx="835020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и движение пациентов, находящихся под ДН в стр. 6.1. ф. № 12, должно полностью соответствовать движению в таблице 2100 ф. № 37 !!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7BC0-C267-4EA6-8A99-44053006B0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6"/>
          <p:cNvSpPr/>
          <p:nvPr/>
        </p:nvSpPr>
        <p:spPr>
          <a:xfrm>
            <a:off x="31719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0"/>
            <a:ext cx="822960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показывать пациент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оящих под ДН в ф. № 12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0" y="0"/>
            <a:ext cx="9144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f00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bf0000"/>
                </a:solidFill>
                <a:latin typeface="Arial"/>
              </a:rPr>
              <a:t>Контакты:</a:t>
            </a:r>
            <a:r>
              <a:rPr b="1" lang="ru-RU" sz="4800" spc="-1" strike="noStrike">
                <a:solidFill>
                  <a:srgbClr val="b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il: OMR-KND@yande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. 23-96-2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0" y="2619360"/>
            <a:ext cx="914400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4800" spc="-1" strike="noStrike">
                <a:solidFill>
                  <a:srgbClr val="bf0000"/>
                </a:solidFill>
                <a:latin typeface="Arial"/>
              </a:rPr>
              <a:t>Официальный сайт</a:t>
            </a:r>
            <a:br>
              <a:rPr sz="4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АУЗ «Забайкальский краевой наркологический диспансер»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nd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hita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528480" y="961920"/>
            <a:ext cx="799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0000"/>
                </a:solidFill>
                <a:latin typeface="Times New Roman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0000"/>
                </a:solidFill>
                <a:latin typeface="Times New Roman"/>
              </a:rPr>
              <a:t>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bolnica"/>
          <p:cNvPicPr/>
          <p:nvPr/>
        </p:nvPicPr>
        <p:blipFill>
          <a:blip r:embed="rId2"/>
          <a:stretch/>
        </p:blipFill>
        <p:spPr>
          <a:xfrm>
            <a:off x="2759040" y="3930480"/>
            <a:ext cx="357516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176040" y="144360"/>
            <a:ext cx="829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Благодарим!</a:t>
            </a: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39840" y="1771560"/>
            <a:ext cx="8483400" cy="45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ицинские организации здравоохранения, подведомственные Министерству здравоохранения Забайкальского края, отчеты которых в наибольшей степени удовлетворили требованиям составления ф.№ 11 и № 37 за 2016 г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Агин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Читин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Александрово-Завод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Калган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Калар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АУЗ «Краевая больница № 4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Забайкаль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Оловяннин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52440" y="176040"/>
            <a:ext cx="850104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Ошибки! Ошибк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По стат. форме № 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Таблица 2100 «Контингенты пациентов, находящихся под наблюдением психиатра-нарколога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200 «Деятельность врачей, осуществляющих амбулаторную помощь пациентам наркологического профи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170 «Контингенты пациентов, проходивших обязательное или альтернативное амбулаторное лечение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500 «Наркологическое освидетельствование» (разница с формой № 30, табл. 251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По стат. форме №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Таблица 4000 «Обследование зарегистрированных пациентов на наличие гемоконтактных инфекц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5920" y="2332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Актуальные формы ФСН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Новый Порядок диспансерного наблюдения пациентов наркологического профи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256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ФСН утверждены приказом Росст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№ 410 от 16.10.2013 г. (формы № 11 и № 37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2016 году формы были адаптированны с учетом Приказа Минздрава России № 1034 от 13 декабря 2015 года, регламентирующего Порядок оказания медицинской помощи по профилю «психиатрия-наркология» и Порядок диспансерного наблюдения за лицами с психическими расстройствами и (или) расстройствами поведения, связанными с употреблением психоактивны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5103-B4D5-4687-BA5E-BB7E4F900C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24000"/>
            <a:ext cx="8075520" cy="4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нимание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5920" y="1042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орядо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ного наблюдения за л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сихическими расстройствами и (или) расстройствами поведения, связанными с употреблением психоактивных веществ, утвержденный Приказом № 1034 Минздрава России от 13 декабря 2015 го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л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концепц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блюдения за пациентами с наркологическими расстройств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нятия «профилактическое наблюдение», «профилактический учет», «профилактическая группа» в новом Порядке отсутствую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пансерное наблюдение организуется как для пациентов с диагнозом «Синдром зависимости» (код заболевания по МКБ-106 – F1x.2), так и для пациентов с другими наркологическими расстройствами, включая  группу пациентов с диагнозом  «пагубное употребление ПАВ» (код заболевания по МКБ-10 – F1x.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пансерное наблюдение организуется только при наличии добровольного информированного согласия пациента в письменн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кратились сроки  прекращения диспансерного наблю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97BE-5E0A-40F0-B1CB-D4566B6890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7360" y="232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Форма №11</a:t>
            </a:r>
            <a:br>
              <a:rPr sz="3600"/>
            </a:b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«Сведения о заболеваниях наркологическими расстройствами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4014360"/>
            <a:ext cx="8229600" cy="21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1 имеет в своем составе 3 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5"/>
          <p:cNvSpPr/>
          <p:nvPr/>
        </p:nvSpPr>
        <p:spPr>
          <a:xfrm>
            <a:off x="6643800" y="6143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9657-47B8-476D-B0A5-747931CB8C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945720"/>
            <a:ext cx="822960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осуществляется при первом в данном году обращении пациента за наркологической помощью (ф.№ 030-1/у-02, ф. № 025-1/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000 сведения показываются обо всех пациентах наркологического профиля, которым в течение отчетного года была оказана амбулаторная лечебная, консультативно-лечебная, реабилитационная помощ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регистр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пациент в течение  отчетного года может быть зарегистрирован только с одним наркологическим заболеванием и только один раз показан в ф. № 11 (по заключительному диагноз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5"/>
          <p:cNvSpPr/>
          <p:nvPr/>
        </p:nvSpPr>
        <p:spPr>
          <a:xfrm>
            <a:off x="6643800" y="6143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ADA8-6C0E-42D9-BBF5-4765EECAB4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7360" y="23292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бследование зарегистрированных </a:t>
            </a:r>
            <a:br>
              <a:rPr sz="2800"/>
            </a:b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ациентов на наличие гемоконтактных инфекций (т. 4000 ф. № 11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52760"/>
            <a:ext cx="82296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ациенты, обратившиеся в течении года за амбулаторной наркологической помощью, должны быть обследованы на ВИЧ, гепатит С и гепатит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ИЧ-позитивные пациенты, находящиеся под диспансерным наблюдением в наркологическом учреждении, но по каким – либо причинам не были обследованы в отчетном году,  также должны быть показаны в т. 4000 ф. №11 как ВИЧ-позитив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5"/>
          <p:cNvSpPr/>
          <p:nvPr/>
        </p:nvSpPr>
        <p:spPr>
          <a:xfrm>
            <a:off x="6643800" y="6143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F04E-1906-4215-9599-4392097D63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Форма № 37</a:t>
            </a:r>
            <a:br>
              <a:rPr sz="3600"/>
            </a:b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«Сведения о пациентах, больных алкоголизмом, наркоманиями, токсикоманиями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25124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37 (20 табли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6FA5-1D5F-44FD-8C92-DB02D0DC0A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Admin</cp:lastModifiedBy>
  <dcterms:modified xsi:type="dcterms:W3CDTF">2017-12-12T02:42:05Z</dcterms:modified>
  <cp:revision>194</cp:revision>
  <dc:subject/>
  <dc:title>PowerPoint Template</dc:title>
</cp:coreProperties>
</file>